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5785-C56A-48BF-9C99-0B24848DFF1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4C6-A6A4-42AD-9AD1-71D77DC71825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BB2-F5EB-47BA-813F-3E72E848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99F-CA25-43AC-8C17-A2661477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AEB-79A3-4CFA-A960-1A0A8B24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BA8-B928-437D-B49C-84665049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86F9-CB94-48A4-B6E1-7892CB71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8DDC-006E-4F82-A0E5-3CDA0475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7EBA-84C9-4254-99D5-02897ED4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B801-087F-4F53-A79A-5A29B20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215C-F63F-47BF-ACEB-12BFFDB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FBB0-55BC-44A2-8831-79FE20CF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7AA1-1217-4198-A54E-AD28AED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941-9219-426A-B9E8-4AB61C42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7339-7631-4A7D-8F92-1C6318D5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29E6-63B3-4DDA-8E6C-308ED0BB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3299-6C89-41C9-B2B7-A42D3A65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9E21-422B-43E4-B120-AAF44757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4CC1-5F38-4D3A-A116-6672CFD4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04D5-1497-4968-AF71-B186CB9F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27BE-8E21-4B5C-8688-2706FA12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3DF-4BC9-42A3-B1B5-3DBEE88C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D10A-6E77-4A4B-9D20-7768F5DB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9BE-2F51-4B02-B695-B21C9F0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DEC-C822-4DE2-80A5-799B4FD1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238-EFAB-4C45-8CE0-D858693F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669-C085-4EFC-8E6E-3BCE054666F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9CF2-970D-4ED1-88C4-6F63DD02442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Informe%20SIMCE%202010.pp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mmunoz@cmvm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9"/>
          <p:cNvSpPr/>
          <p:nvPr/>
        </p:nvSpPr>
        <p:spPr>
          <a:xfrm>
            <a:off x="971640" y="1214280"/>
            <a:ext cx="70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rporación Municipal Viña del M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18" name="Picture 13" descr="log-cmvm"/>
            <p:cNvPicPr/>
            <p:nvPr/>
          </p:nvPicPr>
          <p:blipFill>
            <a:blip r:embed="rId1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4" descr="Copia de logo02"/>
            <p:cNvPicPr/>
            <p:nvPr/>
          </p:nvPicPr>
          <p:blipFill>
            <a:blip r:embed="rId2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6 CuadroTexto"/>
          <p:cNvSpPr/>
          <p:nvPr/>
        </p:nvSpPr>
        <p:spPr>
          <a:xfrm>
            <a:off x="785880" y="22860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Gestión Curricular CMVM 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ahoma"/>
              </a:rPr>
              <a:t>Y Programas Comun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2143080" y="4857840"/>
            <a:ext cx="50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Miguel Muñoz Baqued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Viña del Mar, 02 de junio del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4260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l aprendizaje, una revisión epistemológica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1320" y="1285920"/>
            <a:ext cx="8358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Clásica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(Sí- No) Aristotélica, griega, occidental, racional (Paradigma cuantitativo); Correcto-Incorrecto; verdadero-falso; sistemas line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Difus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, Borrosa, Fuzzi, razonamiento aproximado (Paradigma cualitativo); grados de verdad; rúbrica; indicadores; sistemas complejos; efecto maripo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"Vagueness: An exercise in Logical Analysis" y Karl Menger (1902 - 1985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Aplicacion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28800" y="1500120"/>
            <a:ext cx="79293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clásic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: Respuesta única (dicotómica); Teoría Clásica de los test; Psicometría; Teoría de respuesta al ítem (TRI); Paradigma cuantitativo; Ciencias Naturales (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nsamiento Convergente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ógica Borrosa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: Respuesta múltiple; Respuesta graduada; Paradigma cualitativo; Ciencias Sociales y del comportamiento (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nsamiento Divergente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¿Qué pasa con el aprendizaje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n Chile se mide </a:t>
            </a:r>
            <a:r>
              <a:rPr b="0" lang="es-ES_tradnl" sz="3200" spc="-1" strike="noStrike">
                <a:solidFill>
                  <a:srgbClr val="ffc000"/>
                </a:solidFill>
                <a:latin typeface="Tahoma"/>
              </a:rPr>
              <a:t>LOGR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- Lo que los estudiantes saben en un momento determinado en su tránsito por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aprendizaje es </a:t>
            </a:r>
            <a:r>
              <a:rPr b="0" lang="es-ES_tradnl" sz="3200" spc="-1" strike="noStrike">
                <a:solidFill>
                  <a:srgbClr val="ffc000"/>
                </a:solidFill>
                <a:latin typeface="Tahoma"/>
              </a:rPr>
              <a:t>crecimiento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: es la diferencia en lo que saben los estudiantes en dos momentos en el tiempo.          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(Valverde, 201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¿Quién es responsable del </a:t>
            </a:r>
            <a:r>
              <a:rPr b="1" lang="es-ES_tradnl" sz="2800" spc="-1" strike="noStrike">
                <a:solidFill>
                  <a:srgbClr val="ffc000"/>
                </a:solidFill>
                <a:latin typeface="Tahoma"/>
              </a:rPr>
              <a:t>aprendizaje</a:t>
            </a: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aprendizaje escolar no se puede atribuir sólo al docent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aprendizaje es la acumulación de experiencias escolares con diferentes docentes en el tiemp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Definir Buena Enseñanza o Buen Docente implica impactar positivamente en el aprendiza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56800" y="1856880"/>
            <a:ext cx="7829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SIMCE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valuaciones Com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La creatividad e innovación en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56800" y="1856880"/>
            <a:ext cx="7829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SIMCE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valuaciones Com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La creatividad e innovación en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73080" y="1714680"/>
            <a:ext cx="8997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Características de los test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6800" y="1428480"/>
            <a:ext cx="7543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nfoque Teoría de Respuesta al ITEM (TRI) (IRT inglés) + Teoría Clásica de los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Test Breves (12 a 15 ítem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Informes sustantivos en Habilidades y destrezas de los alumnos(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Valor Agregado; Progreso escolar; Aprendiza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Análisis Multinivel y Jerárqu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56800" y="1856880"/>
            <a:ext cx="7829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SIMCE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valuaciones Com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creatividad e innovación en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75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Modelo de Estilos de Pensamiento (ZEP)</a:t>
            </a:r>
            <a:br>
              <a:rPr sz="1800"/>
            </a:b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(Muñoz, Larrondo, Lara y Saavedra, 20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715240" cy="56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56800" y="1856880"/>
            <a:ext cx="7829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SIM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valuaciones Com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creatividad e innovación en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6800" y="20714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ahoma"/>
              </a:rPr>
              <a:t>Eje de la GC: La creatividad e Innovación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28440" y="3143160"/>
            <a:ext cx="75438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n la Gestión Curricular o pedagóg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stimular y desarrollar iniciativas propias en la UE en el marco curricular vige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3 CuadroTexto"/>
          <p:cNvSpPr/>
          <p:nvPr/>
        </p:nvSpPr>
        <p:spPr>
          <a:xfrm>
            <a:off x="1428840" y="571680"/>
            <a:ext cx="67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 de la GC: Creatividad e innov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puesta/Programa/Plan Anual de la Escuela/Lice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ahoma"/>
              </a:rPr>
              <a:t>Metodología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9720" y="2071800"/>
            <a:ext cx="75438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escripción de Plan/Programa (al 30 de abril enviando a CC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ronogra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- Actividades/fechas y encargado(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Creatividad en Matemática… en el aul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704080" cy="214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>
            <a:grayscl/>
          </a:blip>
          <a:srcRect l="62654" t="27849" r="0" b="0"/>
          <a:stretch/>
        </p:blipFill>
        <p:spPr>
          <a:xfrm>
            <a:off x="2214720" y="4000680"/>
            <a:ext cx="1428480" cy="214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rcRect l="0" t="53911" r="0" b="12956"/>
          <a:stretch/>
        </p:blipFill>
        <p:spPr>
          <a:xfrm>
            <a:off x="4357800" y="4429080"/>
            <a:ext cx="212076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14240" y="554040"/>
            <a:ext cx="78836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71680" y="270000"/>
            <a:ext cx="7980120" cy="63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Al finalizar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440" y="2571840"/>
            <a:ext cx="75438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s ideas no son ni buenas ni malas, la gestión de las ide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determina la diferenci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y la excelencia de ést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6 CuadroTexto"/>
          <p:cNvSpPr/>
          <p:nvPr/>
        </p:nvSpPr>
        <p:spPr>
          <a:xfrm>
            <a:off x="1000080" y="121428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7 CuadroTexto"/>
          <p:cNvSpPr/>
          <p:nvPr/>
        </p:nvSpPr>
        <p:spPr>
          <a:xfrm>
            <a:off x="857160" y="3643200"/>
            <a:ext cx="5540400" cy="25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iguel Muñoz Baquedan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ordinador de Gestión Curricular, Educación, CMV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el:       32-2272 4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-mail:  </a:t>
            </a:r>
            <a:r>
              <a:rPr b="0" lang="es-ES" sz="1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mmunoz@cmvm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73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Fundamentos Teóric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2640" y="1642680"/>
            <a:ext cx="75438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. El Humanismo 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(Psicología Humanis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rl Rogers (1951, 1967, 1983); John Dewey (1916). Enfatiza la experiencia subjetiva, la libertad de elección y la relevancia del significado individu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Aprendizaje experiencial (Las palabras están cargadas de significado personal). La experiencia se construy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Implicancia en el aula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142640" y="1642680"/>
            <a:ext cx="75438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Desarrollo afecti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Autoest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étodos flexi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Trabajo Grup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Rol educador: guía, facilit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valuación cualitati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. El interaccionismo social (simbólico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s personas construyen y desarrollan sus estructuras cognitivas socialmente al experimentar, comunicar y entender la realidad a través del lenguaje y la cul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undo y hombre son concebidos com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c00000"/>
                </a:solidFill>
                <a:latin typeface="Tahoma"/>
              </a:rPr>
              <a:t>procesos</a:t>
            </a: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, no como realidades substanc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El interaccionismo soci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571400"/>
            <a:ext cx="7543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entro de la escuela es el aprendizaje: Todos aprend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organización apren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aprendizaje es en distribuido y en paralelo (cerebr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onocimiento y la interpretación de la realidad son cambiantes en función de la mejor evid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. Investigación-Acción (Métodos etnográficos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Método de investigación en que el investigador (docente) tiene un doble rol: Investigador (observador) y participan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método combina dos tipos de conocimientos: Teórico y el de un contexto determin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mplicancia en el aula: aprender a aprender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28440" y="1928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La investigación-implementación-intervención es llevada por doc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Resuelve problemas de la enseñan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Implica la aplicación del método científ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trabajo del docente es colaborativo, intercambia ideas y se comparten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6800" y="1856880"/>
            <a:ext cx="78296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Fundamentos teóricos de la G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El conocimiento, aprendizaje, una revisión epistemológ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SIM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Evaluaciones Comun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La creatividad e innovación en la escue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13:52:53Z</dcterms:created>
  <dc:creator>lauverd</dc:creator>
  <dc:description/>
  <dc:language>en-US</dc:language>
  <cp:lastModifiedBy>Administrador</cp:lastModifiedBy>
  <dcterms:modified xsi:type="dcterms:W3CDTF">2011-06-02T15:00:37Z</dcterms:modified>
  <cp:revision>146</cp:revision>
  <dc:subject/>
  <dc:title>Diapositiva 1</dc:title>
</cp:coreProperties>
</file>