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2E2B-7D92-45ED-9120-FBE27C56742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EB0E-1A75-4383-8558-11EBBAA8D8EC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FFC-AF7D-4522-A96D-D40E1F67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69C-D2FC-4DAD-B2E3-D276AE6C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021-528E-45DA-8394-E0818DD4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758-77F5-4AD2-8571-E0AF676B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68AFA-1379-4326-BF28-2187FF3D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D042E-C438-4C83-A9E8-87295633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DDDE2-188D-4EAF-B9A6-DA4CA214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A423B-FE40-4480-8046-A4639C2E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75B63-EFCE-47E0-85A6-41795C83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26B35-2AEC-4DD3-AF66-F2BE960A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08563-04FB-451F-A7F2-F98BE6E7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07A-96AE-4F3D-8821-1AF8DB8B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37AF4-D1E8-4FB2-BC20-DC417514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7B54D-DB15-48FC-9D0A-017299B7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53A99-FD1A-4CF3-B85B-3475A513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756F6-E8B0-4F69-AAB4-F971E041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5EA9E-2693-4928-9D2A-56E3DCCF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513-7FD5-4695-9890-6794B38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47E-6155-4B40-8E91-79700DDA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E799-F380-4F3A-AEC9-09E49ECE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789-F521-499E-9581-9C416361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765-23E2-4AD0-B6F4-4BFBA80C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23F-8415-4995-8678-19518A0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53A-305D-442E-B41E-EB639439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B1A5-5DDB-46C9-A461-CDF8C296E7E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19B4-B544-45C4-B5D6-8DA6B26256D9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e3e3ff"/>
                </a:solidFill>
                <a:latin typeface="Arial"/>
              </a:rPr>
              <a:t>Contextualizando lo Curricular </a:t>
            </a:r>
            <a:br>
              <a:rPr sz="3600"/>
            </a:br>
            <a:r>
              <a:rPr b="1" lang="es-ES" sz="3600" spc="-1" strike="noStrike">
                <a:solidFill>
                  <a:srgbClr val="e3e3ff"/>
                </a:solidFill>
                <a:latin typeface="Arial"/>
              </a:rPr>
              <a:t>en el Liceo JFV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Jueves 02 de Junio 20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059280" y="189000"/>
            <a:ext cx="2447640" cy="153036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0" y="189000"/>
            <a:ext cx="8829720" cy="6381720"/>
            <a:chOff x="0" y="189000"/>
            <a:chExt cx="8829720" cy="6381720"/>
          </a:xfrm>
        </p:grpSpPr>
        <p:sp>
          <p:nvSpPr>
            <p:cNvPr id="167" name="AutoShape 5"/>
            <p:cNvSpPr/>
            <p:nvPr/>
          </p:nvSpPr>
          <p:spPr>
            <a:xfrm>
              <a:off x="0" y="189000"/>
              <a:ext cx="8829720" cy="638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6"/>
            <p:cNvSpPr/>
            <p:nvPr/>
          </p:nvSpPr>
          <p:spPr>
            <a:xfrm>
              <a:off x="126000" y="189000"/>
              <a:ext cx="6937920" cy="63817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7"/>
            <p:cNvSpPr/>
            <p:nvPr/>
          </p:nvSpPr>
          <p:spPr>
            <a:xfrm>
              <a:off x="882720" y="1465560"/>
              <a:ext cx="5550840" cy="4307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8"/>
            <p:cNvSpPr/>
            <p:nvPr/>
          </p:nvSpPr>
          <p:spPr>
            <a:xfrm>
              <a:off x="1513440" y="2263320"/>
              <a:ext cx="4288320" cy="33498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2143800" y="3220560"/>
              <a:ext cx="3154320" cy="1754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2774520" y="4018320"/>
              <a:ext cx="1639440" cy="79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WordArt 11"/>
            <p:cNvSpPr txBox="1"/>
            <p:nvPr/>
          </p:nvSpPr>
          <p:spPr>
            <a:xfrm>
              <a:off x="3279600" y="2583000"/>
              <a:ext cx="216252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hevron">
                <a:avLst>
                  <a:gd name="adj" fmla="val 25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5050"/>
                  </a:solid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lAN DE MEJORA</a:t>
              </a:r>
              <a:endParaRPr b="0" lang="en-US" sz="20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505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4" name="WordArt 12"/>
            <p:cNvSpPr txBox="1"/>
            <p:nvPr/>
          </p:nvSpPr>
          <p:spPr>
            <a:xfrm>
              <a:off x="2143800" y="1943640"/>
              <a:ext cx="88344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ffff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PEI</a:t>
              </a:r>
              <a:endParaRPr b="0" lang="en-US" sz="1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5" name="WordArt 13"/>
            <p:cNvSpPr txBox="1"/>
            <p:nvPr/>
          </p:nvSpPr>
          <p:spPr>
            <a:xfrm>
              <a:off x="2522520" y="667800"/>
              <a:ext cx="4019040" cy="89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cc00cc"/>
                    </a:solidFill>
                    <a:miter/>
                  </a:ln>
                  <a:solidFill>
                    <a:srgbClr val="cc00cc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Planes y Programas del MINEDUC</a:t>
              </a:r>
              <a:endParaRPr b="0" lang="en-US" sz="20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cc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cc00cc"/>
                    </a:solidFill>
                    <a:miter/>
                  </a:ln>
                  <a:solidFill>
                    <a:srgbClr val="cc00cc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Dcto.254 (Ajuste Curricular).</a:t>
              </a:r>
              <a:endParaRPr b="0" lang="en-US" sz="2000" spc="1" strike="noStrike">
                <a:ln w="9360">
                  <a:solidFill>
                    <a:srgbClr val="cc00cc"/>
                  </a:solidFill>
                  <a:miter/>
                </a:ln>
                <a:solidFill>
                  <a:srgbClr val="cc00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6" name="WordArt 14"/>
            <p:cNvSpPr txBox="1"/>
            <p:nvPr/>
          </p:nvSpPr>
          <p:spPr>
            <a:xfrm>
              <a:off x="2648520" y="3539160"/>
              <a:ext cx="1239480" cy="40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Inverted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ff00ff"/>
                    </a:solidFill>
                    <a:miter/>
                  </a:ln>
                  <a:solidFill>
                    <a:srgbClr val="cc00cc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Pycto. Pedagógico</a:t>
              </a:r>
              <a:endParaRPr b="0" lang="en-US" sz="12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cc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77" name="WordArt 15"/>
            <p:cNvSpPr txBox="1"/>
            <p:nvPr/>
          </p:nvSpPr>
          <p:spPr>
            <a:xfrm>
              <a:off x="3153600" y="4177800"/>
              <a:ext cx="809640" cy="30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Times New Roman"/>
                </a:rPr>
                <a:t>Alumno/a</a:t>
              </a:r>
              <a:endParaRPr b="0" lang="en-US" sz="1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78" name="Picture 1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956720" y="5734080"/>
            <a:ext cx="96804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1" lang="es-ES" sz="4400" spc="-1" strike="noStrike">
                <a:solidFill>
                  <a:srgbClr val="e3e3ff"/>
                </a:solidFill>
                <a:latin typeface="Arial"/>
              </a:rPr>
              <a:t>PLAN DE MEJORA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 General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) En el ámbito  curricular: Mejorar los aprendizajes de los alumnos/as del establecimiento, en todos los niveles y subsectores a partir de la competencia transversal </a:t>
            </a:r>
            <a:r>
              <a:rPr b="1" lang="es-ES" sz="2800" spc="-1" strike="noStrike" u="sng">
                <a:solidFill>
                  <a:srgbClr val="cc00cc"/>
                </a:solidFill>
                <a:uFillTx/>
                <a:latin typeface="Arial"/>
              </a:rPr>
              <a:t>"COMPRENSIÓN LECTORA",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fortaleciendo la asignación de horario para las planificaciones clase a clase, instalando prácticas de observación de clases y evaluando sistemáticamente su puesta en march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5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333360"/>
            <a:ext cx="96840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) En el ámbito de la convivencia escolar: Mejorar la convivencia escolar en el establecimiento, a través de una política del </a:t>
            </a:r>
            <a:r>
              <a:rPr b="1" lang="es-ES" sz="3200" spc="-1" strike="noStrike" u="sng">
                <a:solidFill>
                  <a:srgbClr val="cc00cc"/>
                </a:solidFill>
                <a:uFillTx/>
                <a:latin typeface="Arial"/>
              </a:rPr>
              <a:t>"BUEN TRATO",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en donde se promueve el desarrollo de prácticas comunicacionales saludables y efectivas, incentivando actitudes de claridad, respeto, participación y empatía en las relaciones interpersona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24000" y="189000"/>
            <a:ext cx="1204920" cy="1143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Diagram 2"/>
          <p:cNvGrpSpPr/>
          <p:nvPr/>
        </p:nvGrpSpPr>
        <p:grpSpPr>
          <a:xfrm>
            <a:off x="-1080" y="-1440"/>
            <a:ext cx="9107280" cy="6861960"/>
            <a:chOff x="-1080" y="-1440"/>
            <a:chExt cx="9107280" cy="6861960"/>
          </a:xfrm>
        </p:grpSpPr>
        <p:sp>
          <p:nvSpPr>
            <p:cNvPr id="185" name="_s3076"/>
            <p:cNvSpPr/>
            <p:nvPr/>
          </p:nvSpPr>
          <p:spPr>
            <a:xfrm flipH="1" flipV="1">
              <a:off x="3104280" y="1226880"/>
              <a:ext cx="1198800" cy="1827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>
              <a:off x="1981800" y="353880"/>
              <a:ext cx="1826640" cy="9421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00cc"/>
                  </a:solidFill>
                  <a:latin typeface="Calibri"/>
                </a:rPr>
                <a:t>Módulos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00cc"/>
                  </a:solidFill>
                  <a:latin typeface="Calibri"/>
                </a:rPr>
                <a:t>Administració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H="1" flipV="1">
              <a:off x="1929600" y="1917360"/>
              <a:ext cx="2160720" cy="12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_s3079"/>
            <p:cNvSpPr/>
            <p:nvPr/>
          </p:nvSpPr>
          <p:spPr>
            <a:xfrm>
              <a:off x="818280" y="1170720"/>
              <a:ext cx="1543680" cy="91584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00cc"/>
                  </a:solidFill>
                  <a:latin typeface="Calibri"/>
                </a:rPr>
                <a:t>Módulo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00cc"/>
                  </a:solidFill>
                  <a:latin typeface="Calibri"/>
                </a:rPr>
                <a:t>Grafic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3080"/>
            <p:cNvSpPr/>
            <p:nvPr/>
          </p:nvSpPr>
          <p:spPr>
            <a:xfrm flipH="1" flipV="1">
              <a:off x="1281240" y="2913480"/>
              <a:ext cx="269028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3081"/>
            <p:cNvSpPr/>
            <p:nvPr/>
          </p:nvSpPr>
          <p:spPr>
            <a:xfrm>
              <a:off x="47520" y="2350080"/>
              <a:ext cx="1550520" cy="916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00cc"/>
                  </a:solidFill>
                  <a:latin typeface="Calibri"/>
                </a:rPr>
                <a:t>Módulo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00cc"/>
                  </a:solidFill>
                  <a:latin typeface="Calibri"/>
                </a:rPr>
                <a:t>Vestuario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3082"/>
            <p:cNvSpPr/>
            <p:nvPr/>
          </p:nvSpPr>
          <p:spPr>
            <a:xfrm flipH="1">
              <a:off x="1284120" y="3564000"/>
              <a:ext cx="2687400" cy="45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3083"/>
            <p:cNvSpPr/>
            <p:nvPr/>
          </p:nvSpPr>
          <p:spPr>
            <a:xfrm>
              <a:off x="47520" y="3658680"/>
              <a:ext cx="1247760" cy="9158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Inglé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3084"/>
            <p:cNvSpPr/>
            <p:nvPr/>
          </p:nvSpPr>
          <p:spPr>
            <a:xfrm flipH="1">
              <a:off x="1939680" y="3745800"/>
              <a:ext cx="2154600" cy="126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_s3085"/>
            <p:cNvSpPr/>
            <p:nvPr/>
          </p:nvSpPr>
          <p:spPr>
            <a:xfrm>
              <a:off x="821520" y="4838760"/>
              <a:ext cx="1247760" cy="91584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Filosofí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_s3086"/>
            <p:cNvSpPr/>
            <p:nvPr/>
          </p:nvSpPr>
          <p:spPr>
            <a:xfrm flipH="1">
              <a:off x="3114720" y="3871080"/>
              <a:ext cx="1194840" cy="18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3087"/>
            <p:cNvSpPr/>
            <p:nvPr/>
          </p:nvSpPr>
          <p:spPr>
            <a:xfrm>
              <a:off x="2215800" y="5655240"/>
              <a:ext cx="1247040" cy="9165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Ed.físic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_s3088"/>
            <p:cNvSpPr/>
            <p:nvPr/>
          </p:nvSpPr>
          <p:spPr>
            <a:xfrm>
              <a:off x="4579200" y="3914640"/>
              <a:ext cx="0" cy="20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3089"/>
            <p:cNvSpPr/>
            <p:nvPr/>
          </p:nvSpPr>
          <p:spPr>
            <a:xfrm>
              <a:off x="3954600" y="5944680"/>
              <a:ext cx="1247760" cy="91584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Tecnologí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_s3090"/>
            <p:cNvSpPr/>
            <p:nvPr/>
          </p:nvSpPr>
          <p:spPr>
            <a:xfrm>
              <a:off x="4847040" y="3868200"/>
              <a:ext cx="1195560" cy="18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3091"/>
            <p:cNvSpPr/>
            <p:nvPr/>
          </p:nvSpPr>
          <p:spPr>
            <a:xfrm>
              <a:off x="5694480" y="5652720"/>
              <a:ext cx="1247040" cy="91656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Biologí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3092"/>
            <p:cNvSpPr/>
            <p:nvPr/>
          </p:nvSpPr>
          <p:spPr>
            <a:xfrm>
              <a:off x="5059800" y="3740760"/>
              <a:ext cx="2157840" cy="126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3093"/>
            <p:cNvSpPr/>
            <p:nvPr/>
          </p:nvSpPr>
          <p:spPr>
            <a:xfrm>
              <a:off x="7088760" y="4833720"/>
              <a:ext cx="1247040" cy="9165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Químic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_s3094"/>
            <p:cNvSpPr/>
            <p:nvPr/>
          </p:nvSpPr>
          <p:spPr>
            <a:xfrm>
              <a:off x="5178240" y="3558960"/>
              <a:ext cx="2690280" cy="45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_s3095"/>
            <p:cNvSpPr/>
            <p:nvPr/>
          </p:nvSpPr>
          <p:spPr>
            <a:xfrm>
              <a:off x="7858440" y="3653640"/>
              <a:ext cx="1247760" cy="91656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Histori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_s3096"/>
            <p:cNvSpPr/>
            <p:nvPr/>
          </p:nvSpPr>
          <p:spPr>
            <a:xfrm flipV="1">
              <a:off x="5178240" y="2905560"/>
              <a:ext cx="2687400" cy="45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_s3097"/>
            <p:cNvSpPr/>
            <p:nvPr/>
          </p:nvSpPr>
          <p:spPr>
            <a:xfrm>
              <a:off x="7855560" y="2342880"/>
              <a:ext cx="1247040" cy="916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Físic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_s3098"/>
            <p:cNvSpPr/>
            <p:nvPr/>
          </p:nvSpPr>
          <p:spPr>
            <a:xfrm flipV="1">
              <a:off x="5056560" y="1912320"/>
              <a:ext cx="2156760" cy="12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_s3099"/>
            <p:cNvSpPr/>
            <p:nvPr/>
          </p:nvSpPr>
          <p:spPr>
            <a:xfrm>
              <a:off x="7077600" y="1165320"/>
              <a:ext cx="1610640" cy="89028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Artes Visual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_s3100"/>
            <p:cNvSpPr/>
            <p:nvPr/>
          </p:nvSpPr>
          <p:spPr>
            <a:xfrm flipV="1">
              <a:off x="4839840" y="1223640"/>
              <a:ext cx="1198800" cy="182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_s3101"/>
            <p:cNvSpPr/>
            <p:nvPr/>
          </p:nvSpPr>
          <p:spPr>
            <a:xfrm>
              <a:off x="5683320" y="351000"/>
              <a:ext cx="1247760" cy="9165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Lenguaje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3102"/>
            <p:cNvSpPr/>
            <p:nvPr/>
          </p:nvSpPr>
          <p:spPr>
            <a:xfrm flipV="1">
              <a:off x="4572000" y="978480"/>
              <a:ext cx="0" cy="20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3103"/>
            <p:cNvSpPr/>
            <p:nvPr/>
          </p:nvSpPr>
          <p:spPr>
            <a:xfrm>
              <a:off x="3808440" y="-1440"/>
              <a:ext cx="1537200" cy="92628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003399"/>
                  </a:solidFill>
                  <a:latin typeface="Calibri"/>
                </a:rPr>
                <a:t>Matemática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_s3104"/>
            <p:cNvSpPr/>
            <p:nvPr/>
          </p:nvSpPr>
          <p:spPr>
            <a:xfrm>
              <a:off x="3504960" y="2972520"/>
              <a:ext cx="2056320" cy="10314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ff00ff"/>
                  </a:solidFill>
                  <a:latin typeface="Calibri"/>
                </a:rPr>
                <a:t>Comprensió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100" spc="-1" strike="noStrike">
                  <a:solidFill>
                    <a:srgbClr val="ff00ff"/>
                  </a:solidFill>
                  <a:latin typeface="Calibri"/>
                </a:rPr>
                <a:t>lectora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4" name="Picture 33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-1080" y="360"/>
              <a:ext cx="968760" cy="903600"/>
            </a:xfrm>
            <a:prstGeom prst="rect">
              <a:avLst/>
            </a:prstGeom>
            <a:ln cap="rnd" w="9360">
              <a:solidFill>
                <a:srgbClr val="808000"/>
              </a:solidFill>
              <a:custDash>
                <a:ds d="100000" sp="1000"/>
              </a:custDash>
              <a:miter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80024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e3e3ff"/>
                </a:solidFill>
                <a:latin typeface="Arial"/>
              </a:rPr>
              <a:t>Ejes de las Pruebas Estandarizadas</a:t>
            </a:r>
            <a:br>
              <a:rPr sz="4800"/>
            </a:br>
            <a:r>
              <a:rPr b="0" lang="es-ES" sz="4800" spc="-1" strike="noStrike">
                <a:solidFill>
                  <a:srgbClr val="e3e3ff"/>
                </a:solidFill>
                <a:latin typeface="Arial"/>
              </a:rPr>
              <a:t>        a.- Lenguaje</a:t>
            </a:r>
            <a:br>
              <a:rPr sz="4800"/>
            </a:br>
            <a:r>
              <a:rPr b="0" lang="es-ES" sz="4800" spc="-1" strike="noStrike">
                <a:solidFill>
                  <a:srgbClr val="e3e3ff"/>
                </a:solidFill>
                <a:latin typeface="Arial"/>
              </a:rPr>
              <a:t>        b.- Matemáticas</a:t>
            </a:r>
            <a:br>
              <a:rPr sz="4800"/>
            </a:br>
            <a:r>
              <a:rPr b="0" lang="es-ES" sz="4800" spc="-1" strike="noStrike">
                <a:solidFill>
                  <a:srgbClr val="e3e3ff"/>
                </a:solidFill>
                <a:latin typeface="Arial"/>
              </a:rPr>
              <a:t>        c.- otra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00000" y="522900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bilidades Básicas y Superi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308720" y="1773360"/>
            <a:ext cx="1079640" cy="101124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habilidades"/>
          <p:cNvPicPr/>
          <p:nvPr/>
        </p:nvPicPr>
        <p:blipFill>
          <a:blip r:embed="rId1"/>
          <a:stretch/>
        </p:blipFill>
        <p:spPr>
          <a:xfrm>
            <a:off x="-487440" y="-365040"/>
            <a:ext cx="10118880" cy="75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e3e3ff"/>
                </a:solidFill>
                <a:uFillTx/>
                <a:latin typeface="Arial"/>
              </a:rPr>
              <a:t>APRENDIZAJES  CLAVES DE LA </a:t>
            </a:r>
            <a:br>
              <a:rPr sz="4000"/>
            </a:br>
            <a:r>
              <a:rPr b="1" lang="es-ES" sz="4000" spc="-1" strike="noStrike" u="sng">
                <a:solidFill>
                  <a:srgbClr val="e3e3ff"/>
                </a:solidFill>
                <a:uFillTx/>
                <a:latin typeface="Arial"/>
              </a:rPr>
              <a:t>COMPRENSIÓN  LECTO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és por la le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luidez lect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racción de inform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pretación de lo leí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rgument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cremento del Vocabul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Formato de Proyecto Pedagógic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1.- Diagnóstico por Subsector: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.Problema:………………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3.- Objetivo General:………………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4.-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547640" y="3141720"/>
          <a:ext cx="5078520" cy="1888920"/>
        </p:xfrm>
        <a:graphic>
          <a:graphicData uri="http://schemas.openxmlformats.org/drawingml/2006/table">
            <a:tbl>
              <a:tblPr/>
              <a:tblGrid>
                <a:gridCol w="2333880"/>
                <a:gridCol w="2744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bjetivos Específic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-Logro Esper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.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1.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.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2.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.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3.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5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812000" y="5661000"/>
            <a:ext cx="96840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5.Actividades:……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6.Cronogram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…………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84360" y="2708280"/>
          <a:ext cx="7138800" cy="1236600"/>
        </p:xfrm>
        <a:graphic>
          <a:graphicData uri="http://schemas.openxmlformats.org/drawingml/2006/table">
            <a:tbl>
              <a:tblPr/>
              <a:tblGrid>
                <a:gridCol w="714240"/>
                <a:gridCol w="712800"/>
                <a:gridCol w="714240"/>
                <a:gridCol w="714600"/>
                <a:gridCol w="714240"/>
                <a:gridCol w="712800"/>
                <a:gridCol w="714240"/>
                <a:gridCol w="714600"/>
                <a:gridCol w="712800"/>
                <a:gridCol w="71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5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596360" y="5013360"/>
            <a:ext cx="96804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280" y="2060640"/>
            <a:ext cx="747396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7.-Estrategias:…………………………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8.- Evalu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) De los logros espe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) Ejecución del Proyecto Pedagóg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9.Presupuesto:…………………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651640" y="5589720"/>
            <a:ext cx="96840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ineamientos de CMV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rateg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lan de Mej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to Pedagóg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clus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333360"/>
            <a:ext cx="96840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Pruebas Estandarizadas</a:t>
            </a:r>
            <a:br>
              <a:rPr sz="4000"/>
            </a:br>
            <a:r>
              <a:rPr b="0" lang="es-ES" sz="4000" spc="-1" strike="noStrike">
                <a:solidFill>
                  <a:srgbClr val="e3e3ff"/>
                </a:solidFill>
                <a:latin typeface="Arial"/>
              </a:rPr>
              <a:t>Etapa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rco Teórico/Constructo/Planes y Progra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finir Dimensiones o rasgos a med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eño y elaboración del instru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icio de exper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de Juicio de exper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licación a muestra pequeña, marcha blanca, aplicación pil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álisis Cuali/Cuant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seño Fin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tocolo (Instrucciones, tiemp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adernillo del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anual de evaluación (Cómo corregir, interpretar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abla de especificaciones (¿Qué mide cada ítem?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ción Definitiva del Test (PRE y POST TE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forme(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740720" y="5373720"/>
            <a:ext cx="96840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"Los problemas de hoy derivan de las soluciones equivocadas de ayer".      (Peter  Sen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ff"/>
                </a:solidFill>
                <a:latin typeface="Arial"/>
              </a:rPr>
              <a:t>"El camino fácil lleva al mismo lugar".</a:t>
            </a:r>
            <a:br>
              <a:rPr sz="2800"/>
            </a:br>
            <a:r>
              <a:rPr b="1" lang="es-ES_tradnl" sz="2800" spc="-1" strike="noStrike">
                <a:solidFill>
                  <a:srgbClr val="ff00ff"/>
                </a:solidFill>
                <a:latin typeface="Arial"/>
              </a:rPr>
              <a:t>Por eso hoy, en nuestro liceo, estamos haciendo un camino disti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 causa y el efecto no están próximos en el tiempo y el espacio".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ff"/>
                </a:solidFill>
                <a:latin typeface="Arial"/>
              </a:rPr>
              <a:t>Somos una institución que  aprende.</a:t>
            </a:r>
            <a:r>
              <a:rPr b="1" lang="es-ES_tradnl" sz="2800" spc="-1" strike="noStrike">
                <a:solidFill>
                  <a:srgbClr val="ff00ff"/>
                </a:solidFill>
                <a:latin typeface="Arial"/>
              </a:rPr>
              <a:t> Nuestro Liceo es  una  organización  viviente, es un sistema emotivo y orgánico en constante evolu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175600" y="5958000"/>
            <a:ext cx="96840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conversación y reflexión es la clave del aprendizaje institucio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ff"/>
                </a:solidFill>
                <a:latin typeface="Arial"/>
              </a:rPr>
              <a:t>Esto  implica invertir un recurso muy Escaso,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Tiem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os establecimientos educacionales que no se toman en serio el aprendizaje organizacional, corren serios riesgos de desapare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028000" y="5805360"/>
            <a:ext cx="968400" cy="90036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Sentido del ha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 hemos recuperado el concepto de OBJETIVOS y su correspondientes metas, (cantidad y tiempo).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Por qué hacemos lo que hacem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???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ff"/>
                </a:solidFill>
                <a:latin typeface="Arial"/>
              </a:rPr>
              <a:t>¿Dónde hacer la palanca, para generar más aprendizajes?, creemos que los PP es nuestra palanca,  hemos hallado un punto donde las modificaciones en las prácticas pedagógicas afectan positivamente a la </a:t>
            </a:r>
            <a:r>
              <a:rPr b="1" lang="es-ES_tradnl" sz="2400" spc="-1" strike="noStrike" u="sng">
                <a:solidFill>
                  <a:srgbClr val="ff00ff"/>
                </a:solidFill>
                <a:uFillTx/>
                <a:latin typeface="Arial"/>
              </a:rPr>
              <a:t>estructuras</a:t>
            </a:r>
            <a:r>
              <a:rPr b="1" lang="es-ES_tradnl" sz="2400" spc="-1" strike="noStrike">
                <a:solidFill>
                  <a:srgbClr val="ff00ff"/>
                </a:solidFill>
                <a:latin typeface="Arial"/>
              </a:rPr>
              <a:t>, para  conducir a mejoras significativas y duraderas</a:t>
            </a:r>
            <a:r>
              <a:rPr b="1" lang="es-ES_tradnl" sz="2400" spc="-1" strike="noStrike">
                <a:solidFill>
                  <a:srgbClr val="33cc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956720" y="5958000"/>
            <a:ext cx="96804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mos buscando aquellas pequeñas “palancas”, esas nuevas prácticas que permitan, mejores resultados, no podemos hacer esfuerzos en gran escala, sino actos pequeños y bien focaliz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256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1" i="1" lang="es-MX" sz="3200" spc="-1" strike="noStrike">
                <a:solidFill>
                  <a:srgbClr val="e3e3ff"/>
                </a:solidFill>
                <a:latin typeface="Arial"/>
              </a:rPr>
              <a:t>Las organizaciones inteligentes </a:t>
            </a:r>
            <a:br>
              <a:rPr sz="3200"/>
            </a:br>
            <a:r>
              <a:rPr b="1" i="1" lang="es-MX" sz="3200" spc="-1" strike="noStrike">
                <a:solidFill>
                  <a:srgbClr val="e3e3ff"/>
                </a:solidFill>
                <a:latin typeface="Arial"/>
              </a:rPr>
              <a:t>son posibles</a:t>
            </a:r>
            <a:br>
              <a:rPr sz="3200"/>
            </a:br>
            <a:r>
              <a:rPr b="1" i="1" lang="es-MX" sz="3200" spc="-1" strike="noStrike">
                <a:solidFill>
                  <a:srgbClr val="e3e3ff"/>
                </a:solidFill>
                <a:latin typeface="Arial"/>
              </a:rPr>
              <a:t> porque todos somos aprendices”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Cecilia Carvajal 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Jefa de UTP.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5084640"/>
            <a:ext cx="1079640" cy="101124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7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 Política de la CMVM en lo curricular, establece un  Nudo crítico, identificado com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Baja Calidad y Equidad de Resultados de Aprendizaj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a creatividad e Inno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333360"/>
            <a:ext cx="96840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Resultados SIM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áfico de resultados, últimas tres mediciones. ¿En qué situación estamos institucionalme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1476360" y="2852640"/>
          <a:ext cx="6983280" cy="363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852640"/>
                    <a:ext cx="698328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Resultados PS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258920" y="1341360"/>
          <a:ext cx="7200720" cy="45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341360"/>
                    <a:ext cx="720072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3e3ff"/>
                </a:solidFill>
                <a:latin typeface="Arial"/>
              </a:rPr>
              <a:t>¿Cómo estamos abordando el nudo crítico?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Qué nuevos caminos estamos exploran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95280" y="333360"/>
            <a:ext cx="968400" cy="90000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3e3ff"/>
                </a:solidFill>
                <a:latin typeface="Arial"/>
              </a:rPr>
              <a:t>Marco Teórico: Constructivismo (aplicado trabajo docente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 método constructivista, en su sentido más amplio, parte de una premis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acer al niño/a protagonista de su aprendizaje, que construya su aprendizaje por sí mismo/a, en contraposición al aprendizaje memorístic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67640" y="5516640"/>
            <a:ext cx="1079640" cy="101124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e3e3ff"/>
                </a:solidFill>
                <a:uFillTx/>
                <a:latin typeface="Arial"/>
              </a:rPr>
              <a:t>Estrategia:</a:t>
            </a: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1" lang="es-ES" sz="1800" spc="-1" strike="noStrike" u="sng">
                <a:solidFill>
                  <a:srgbClr val="cc00cc"/>
                </a:solidFill>
                <a:uFillTx/>
                <a:latin typeface="Arial"/>
              </a:rPr>
              <a:t>AULA: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Mejoramiento continuo, de  los procesos E - 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l interior del A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.-  </a:t>
            </a:r>
            <a:r>
              <a:rPr b="1" lang="es-ES" sz="1800" spc="-1" strike="noStrike" u="sng">
                <a:solidFill>
                  <a:srgbClr val="cc00cc"/>
                </a:solidFill>
                <a:uFillTx/>
                <a:latin typeface="Arial"/>
              </a:rPr>
              <a:t>PLANIFICACIÓN</a:t>
            </a:r>
            <a:r>
              <a:rPr b="1" lang="es-ES" sz="1800" spc="-1" strike="noStrike">
                <a:solidFill>
                  <a:srgbClr val="cc00cc"/>
                </a:solidFill>
                <a:latin typeface="Arial"/>
              </a:rPr>
              <a:t>: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Conforme al MBE. Fortalecimiento de las prácticas de  Planificación  y gestión,  de lo particular a lo gener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3.-  </a:t>
            </a:r>
            <a:r>
              <a:rPr b="1" lang="es-ES" sz="1800" spc="-1" strike="noStrike" u="sng">
                <a:solidFill>
                  <a:srgbClr val="cc00cc"/>
                </a:solidFill>
                <a:uFillTx/>
                <a:latin typeface="Arial"/>
              </a:rPr>
              <a:t>VISION SISTÉMICA: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Conectar el desarrollo estratégico del liceo,  con prioridades  comu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1" lang="es-ES" sz="1800" spc="-1" strike="noStrike" u="sng">
                <a:solidFill>
                  <a:srgbClr val="cc00cc"/>
                </a:solidFill>
                <a:uFillTx/>
                <a:latin typeface="Arial"/>
              </a:rPr>
              <a:t>EJECUTAR PLAN DE MEJORA: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instrumento que nos permite priorizar los aprendizaj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5.- </a:t>
            </a:r>
            <a:r>
              <a:rPr b="1" lang="es-ES" sz="1800" spc="-1" strike="noStrike" u="sng">
                <a:solidFill>
                  <a:srgbClr val="cc00cc"/>
                </a:solidFill>
                <a:uFillTx/>
                <a:latin typeface="Arial"/>
              </a:rPr>
              <a:t>PROYECTOS PEDAGÓGICOS: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 Desarrollo de autonomía profesional en los docentes,  que desemboca en trabajo en equipo , capacidad colectiva de reflexionar de la práctica docente , autoevaluación permanente y alcanzar altos logros de aprendizaj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204840"/>
            <a:ext cx="1079280" cy="101124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 rot="19186200">
            <a:off x="2855880" y="1325520"/>
            <a:ext cx="1711440" cy="2522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 rot="19176600">
            <a:off x="5051520" y="1915920"/>
            <a:ext cx="1827000" cy="299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3"/>
          <a:stretch/>
        </p:blipFill>
        <p:spPr>
          <a:xfrm rot="19376400">
            <a:off x="2814480" y="3966840"/>
            <a:ext cx="1828800" cy="2585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4"/>
          <a:stretch/>
        </p:blipFill>
        <p:spPr>
          <a:xfrm rot="19302600">
            <a:off x="4048200" y="4379400"/>
            <a:ext cx="2819160" cy="160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5"/>
          <a:stretch/>
        </p:blipFill>
        <p:spPr>
          <a:xfrm rot="21487200">
            <a:off x="2123640" y="2133720"/>
            <a:ext cx="1862280" cy="25527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4964760" y="509580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716920" y="48690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Verdana"/>
              </a:rPr>
              <a:t>monitore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Verdana"/>
              </a:rPr>
              <a:t>y evalu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415600" y="29973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Verdana"/>
              </a:rPr>
              <a:t>diagnós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3582360" y="3557520"/>
            <a:ext cx="19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Plan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Mejor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655240" y="3295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99"/>
                </a:solidFill>
                <a:latin typeface="Verdana"/>
              </a:rPr>
              <a:t>me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1619280" y="836640"/>
            <a:ext cx="654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ff"/>
                </a:solidFill>
                <a:latin typeface="Calibri"/>
              </a:rPr>
              <a:t>CICLO DEL MEJORAMIENTO CONTIN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3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50920" y="204840"/>
            <a:ext cx="1079280" cy="1011240"/>
          </a:xfrm>
          <a:prstGeom prst="rect">
            <a:avLst/>
          </a:prstGeom>
          <a:ln cap="rnd" w="9360">
            <a:solidFill>
              <a:srgbClr val="808000"/>
            </a:solidFill>
            <a:custDash>
              <a:ds d="100000" sp="1000"/>
            </a:custDash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4:57:31Z</dcterms:created>
  <dc:creator>SHADOW LITE SP3</dc:creator>
  <dc:description/>
  <dc:language>en-US</dc:language>
  <cp:lastModifiedBy>Administrador</cp:lastModifiedBy>
  <dcterms:modified xsi:type="dcterms:W3CDTF">2011-06-03T19:43:16Z</dcterms:modified>
  <cp:revision>37</cp:revision>
  <dc:subject/>
  <dc:title>Diapositiva 1</dc:title>
</cp:coreProperties>
</file>