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D989-C360-4FBF-BF05-FFB06F5DBD0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FEED-8552-45E8-AA59-CEDCC4D3A345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E07D-50D5-4B09-9DF6-14183F3F110A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ED5-2FE9-467C-85D7-E4DE6641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E9E-D107-4779-80A8-E713F089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ED3-BF6B-4EAD-986C-3A89402F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6370-4614-4A2E-A93C-28D5E136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EE0-4861-4142-BC62-331668B2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12D-C290-404B-9F6E-987A046F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90C-BEC9-4D9B-B7DF-7EC2E826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E92-632B-4252-8482-9B2B42DB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E56-C189-43E6-9E9F-EF7B03B6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1EB-CDAF-4AFD-B29D-A29552C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E12-C2D0-4A76-8135-01F13C2B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7DDD-05BE-4C96-85B3-0F71E7CA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ECD9-FA8E-4941-BF13-C2053DFF4EE5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1 Título"/>
          <p:cNvSpPr/>
          <p:nvPr/>
        </p:nvSpPr>
        <p:spPr>
          <a:xfrm>
            <a:off x="1116000" y="2124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RESULTADOS DE EVALUACIÓN DOCENTE 2010 - CMV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2 Subtítulo"/>
          <p:cNvSpPr/>
          <p:nvPr/>
        </p:nvSpPr>
        <p:spPr>
          <a:xfrm>
            <a:off x="1484280" y="3863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Prof. Sebastián Saavedra V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6 CuadroTexto"/>
          <p:cNvSpPr/>
          <p:nvPr/>
        </p:nvSpPr>
        <p:spPr>
          <a:xfrm>
            <a:off x="2411280" y="5877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00"/>
                </a:solidFill>
                <a:latin typeface="Calibri"/>
              </a:rPr>
              <a:t>Viña del Mar, Hotel Marina del Rey, 02  de junio de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2"/>
          <p:cNvGrpSpPr/>
          <p:nvPr/>
        </p:nvGrpSpPr>
        <p:grpSpPr>
          <a:xfrm>
            <a:off x="3854520" y="506520"/>
            <a:ext cx="1713960" cy="1453320"/>
            <a:chOff x="3854520" y="506520"/>
            <a:chExt cx="1713960" cy="1453320"/>
          </a:xfrm>
        </p:grpSpPr>
        <p:pic>
          <p:nvPicPr>
            <p:cNvPr id="54" name="Picture 13" descr="log-cmvm"/>
            <p:cNvPicPr/>
            <p:nvPr/>
          </p:nvPicPr>
          <p:blipFill>
            <a:blip r:embed="rId2"/>
            <a:stretch/>
          </p:blipFill>
          <p:spPr>
            <a:xfrm>
              <a:off x="3854520" y="506520"/>
              <a:ext cx="1713960" cy="96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Copia de logo02"/>
            <p:cNvPicPr/>
            <p:nvPr/>
          </p:nvPicPr>
          <p:blipFill>
            <a:blip r:embed="rId3"/>
            <a:stretch/>
          </p:blipFill>
          <p:spPr>
            <a:xfrm>
              <a:off x="3854520" y="1547280"/>
              <a:ext cx="1713960" cy="41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03" name="1 Título"/>
          <p:cNvSpPr/>
          <p:nvPr/>
        </p:nvSpPr>
        <p:spPr>
          <a:xfrm>
            <a:off x="598320" y="18900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TRES GRANDES 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Reflexión a partir de los resultados de la evalua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Nivel descriptivo: Debe señalar puntaje, % de logro y nivel de logro en el objetiv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Nivel complej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Enunciar fortalezas y debil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Enunciar como se potencian las fortalez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Enunciar como se superar las debil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¿Cómo potenció mi práctica pedagógic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08" name="1 Título"/>
          <p:cNvSpPr/>
          <p:nvPr/>
        </p:nvSpPr>
        <p:spPr>
          <a:xfrm>
            <a:off x="598320" y="18900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TRES GRANDES 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Interacción pedagógic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Deben desarrollar habilidades de nivel complejo (argumentación, inferencia, transferenci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La mejor y mayor participación del grupo en la tar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Enfocar en cómo el grupo puede apoyar la superación de dificultades y el fortalecimiento de las potencialidad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598320" y="189000"/>
            <a:ext cx="8229600" cy="156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Resultados promedios 2010 en Evaluación Doc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Destacan los resultados promedios en los siguientes subsectores a nivel comu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Educación Física en Educación Bás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Religión Evangélica en Educación Bás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Todos los demás subsectores se encuentran bajo el nivel espera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18" name="1 Título"/>
          <p:cNvSpPr/>
          <p:nvPr/>
        </p:nvSpPr>
        <p:spPr>
          <a:xfrm>
            <a:off x="598320" y="189000"/>
            <a:ext cx="8229600" cy="156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TRES GRANDES 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Preocupa que se entregue una falsa imagen del profesor competente o destacado, ya que en promedio presentamos resultados bajo el desempeño mínimo esperado (Competent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Se requieren acciones remediales, no sólo en las inducciones en el proceso de evaluación docente sino también en las capacitaciones de cada subsector (desde junio, anexo a capacitaciones de Singapur, para los profesores de Primer Ciclo, se propone realizar talleres de apoyo a la acción docente en aula, sobre cómo mejorar la </a:t>
            </a:r>
            <a:r>
              <a:rPr b="1" lang="es-MX" sz="2400" spc="-1" strike="noStrike">
                <a:solidFill>
                  <a:srgbClr val="ffff00"/>
                </a:solidFill>
                <a:latin typeface="Calibri"/>
              </a:rPr>
              <a:t>calidad de las evaluaciones</a:t>
            </a: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, su posterior </a:t>
            </a:r>
            <a:r>
              <a:rPr b="1" lang="es-MX" sz="2400" spc="-1" strike="noStrike">
                <a:solidFill>
                  <a:srgbClr val="ffff00"/>
                </a:solidFill>
                <a:latin typeface="Calibri"/>
              </a:rPr>
              <a:t>reflexión</a:t>
            </a: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 y la </a:t>
            </a:r>
            <a:r>
              <a:rPr b="1" lang="es-MX" sz="2400" spc="-1" strike="noStrike">
                <a:solidFill>
                  <a:srgbClr val="ffff00"/>
                </a:solidFill>
                <a:latin typeface="Calibri"/>
              </a:rPr>
              <a:t>interacción pedagógica entre docente – alumno</a:t>
            </a:r>
            <a:r>
              <a:rPr b="0" lang="es-MX" sz="2400" spc="-1" strike="noStrike">
                <a:solidFill>
                  <a:srgbClr val="ffff00"/>
                </a:solidFill>
                <a:latin typeface="Calibri"/>
              </a:rPr>
              <a:t>, desde una perspectiva constructivist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219240" y="189000"/>
            <a:ext cx="87454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59" name="1 Título"/>
          <p:cNvSpPr/>
          <p:nvPr/>
        </p:nvSpPr>
        <p:spPr>
          <a:xfrm>
            <a:off x="598320" y="189000"/>
            <a:ext cx="8229600" cy="156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Ámbitos de la evaluación docent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A. Organización de los elementos de la un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B. Análisis de las actividades de las cla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C. Calidad de la evaluación de la un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D. Reflexión a partir de los resultados de la evalu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E. Reflexión pedagóg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F. Ambiente de la clase para el aprendizaj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G. Estructura de la cl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H. Interacción pedagógic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3" name="10 Gráfico" descr=""/>
          <p:cNvPicPr/>
          <p:nvPr/>
        </p:nvPicPr>
        <p:blipFill>
          <a:blip r:embed="rId2"/>
          <a:stretch/>
        </p:blipFill>
        <p:spPr>
          <a:xfrm>
            <a:off x="237960" y="249120"/>
            <a:ext cx="8740800" cy="643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98280" y="0"/>
            <a:ext cx="872172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326880" y="189000"/>
            <a:ext cx="84218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9280" y="74520"/>
            <a:ext cx="878544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9" name="1 Título"/>
          <p:cNvSpPr/>
          <p:nvPr/>
        </p:nvSpPr>
        <p:spPr>
          <a:xfrm>
            <a:off x="598320" y="18900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Resultados promedios 2010 en Evaluación Doc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2 Marcador de contenido"/>
          <p:cNvSpPr/>
          <p:nvPr/>
        </p:nvSpPr>
        <p:spPr>
          <a:xfrm>
            <a:off x="609480" y="1670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352440" y="1563840"/>
            <a:ext cx="6988320" cy="4740120"/>
          </a:xfrm>
          <a:prstGeom prst="rect">
            <a:avLst/>
          </a:prstGeom>
          <a:ln w="0">
            <a:noFill/>
          </a:ln>
        </p:spPr>
      </p:pic>
      <p:sp>
        <p:nvSpPr>
          <p:cNvPr id="82" name="Cuadro de texto 2"/>
          <p:cNvSpPr/>
          <p:nvPr/>
        </p:nvSpPr>
        <p:spPr>
          <a:xfrm>
            <a:off x="7424640" y="3259080"/>
            <a:ext cx="1692360" cy="311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548dd4"/>
                </a:solidFill>
                <a:latin typeface="Arial"/>
              </a:rPr>
              <a:t>Compet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5 Conector recto de flecha"/>
          <p:cNvCxnSpPr/>
          <p:nvPr/>
        </p:nvCxnSpPr>
        <p:spPr>
          <a:xfrm flipH="1">
            <a:off x="6892200" y="3414240"/>
            <a:ext cx="53244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1 CuadroTexto"/>
          <p:cNvSpPr/>
          <p:nvPr/>
        </p:nvSpPr>
        <p:spPr>
          <a:xfrm rot="5400000">
            <a:off x="2235240" y="5951520"/>
            <a:ext cx="144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58ed5"/>
                </a:solidFill>
                <a:latin typeface="Calibri"/>
              </a:rPr>
              <a:t>evalu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0 CuadroTexto"/>
          <p:cNvSpPr/>
          <p:nvPr/>
        </p:nvSpPr>
        <p:spPr>
          <a:xfrm rot="5400000">
            <a:off x="2940480" y="5979240"/>
            <a:ext cx="1442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58ed5"/>
                </a:solidFill>
                <a:latin typeface="Calibri"/>
              </a:rPr>
              <a:t>reflex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1 CuadroTexto"/>
          <p:cNvSpPr/>
          <p:nvPr/>
        </p:nvSpPr>
        <p:spPr>
          <a:xfrm rot="5400000">
            <a:off x="5691240" y="5951520"/>
            <a:ext cx="144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58ed5"/>
                </a:solidFill>
                <a:latin typeface="Calibri"/>
              </a:rPr>
              <a:t>intera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5 Conector recto de flecha"/>
          <p:cNvCxnSpPr>
            <a:stCxn id="84" idx="1"/>
          </p:cNvCxnSpPr>
          <p:nvPr/>
        </p:nvCxnSpPr>
        <p:spPr>
          <a:xfrm flipH="1" flipV="1">
            <a:off x="2952000" y="5074560"/>
            <a:ext cx="3960" cy="338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5 Conector recto de flecha"/>
          <p:cNvCxnSpPr/>
          <p:nvPr/>
        </p:nvCxnSpPr>
        <p:spPr>
          <a:xfrm flipH="1" flipV="1">
            <a:off x="3656880" y="5127120"/>
            <a:ext cx="3960" cy="33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5 Conector recto de flecha"/>
          <p:cNvCxnSpPr/>
          <p:nvPr/>
        </p:nvCxnSpPr>
        <p:spPr>
          <a:xfrm flipH="1" flipV="1">
            <a:off x="6396840" y="5127120"/>
            <a:ext cx="3960" cy="33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93" name="1 Título"/>
          <p:cNvSpPr/>
          <p:nvPr/>
        </p:nvSpPr>
        <p:spPr>
          <a:xfrm>
            <a:off x="598320" y="189000"/>
            <a:ext cx="8229600" cy="156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Resultados promedios 2010 en Evaluación Doc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Nuestra comuna muestra resultados bajo el esperado en la mayoría de las dimensiones del portafolio, a excepción de “ambiente de la clase” (del módulo de la clase filmad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Calibri"/>
              </a:rPr>
              <a:t>Los aspectos que requieren mayor atención corresponden a las dimensiones: (a) Calidad de la Evaluación; (b) Reflexión a partir de los resultados de la evaluación y (c) Interacción Pedagógic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2700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98" name="1 Título"/>
          <p:cNvSpPr/>
          <p:nvPr/>
        </p:nvSpPr>
        <p:spPr>
          <a:xfrm>
            <a:off x="598320" y="189000"/>
            <a:ext cx="82296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alibri"/>
              </a:rPr>
              <a:t>TRES GRANDES 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2 Marcador de contenido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eño de evaluaciones de cal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Coherente al proceso de enseñanza: Cómo enseñó </a:t>
            </a:r>
            <a:r>
              <a:rPr b="0" lang="es-MX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 Cómo evalú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Declarando objetivos, instrucciones y la unidad que se evalú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Diseñando pautas de correcciones o rúbricas ad hoc al instr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Calibri"/>
              </a:rPr>
              <a:t>Determinando niveles de logros a partir de los result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54:51Z</dcterms:created>
  <dc:creator>Sebastip</dc:creator>
  <dc:description/>
  <dc:language>en-US</dc:language>
  <cp:lastModifiedBy>Sebastip</cp:lastModifiedBy>
  <dcterms:modified xsi:type="dcterms:W3CDTF">2011-06-02T19:45:30Z</dcterms:modified>
  <cp:revision>54</cp:revision>
  <dc:subject/>
  <dc:title>Aplicación del Programa LEE</dc:title>
</cp:coreProperties>
</file>