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9D82-84AC-4487-A771-F10B61259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64E2-6DE0-48CA-8326-A83CB3F9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54F8-B8A5-4D57-BF28-83BA6D7F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5A4D-CC64-4779-A2E9-111014CA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F612-2494-49F3-A6E1-9F056AF33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E5BD-9398-414D-A94A-2875FFD9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7060-66A1-481B-AF04-D3DE55D3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5312-47E3-45E7-AEA1-19F2FB39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F595-6975-4EA2-98A4-FDE107D3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3E29-DDA0-49DF-9033-02EFA83C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446D-CB1D-4E50-AD42-9B733DA9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0A6A-81F8-408A-8BC0-42C74599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EE60-9820-4B42-90DC-23073EBB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B663-FA0F-49C3-937A-054BCCE9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2263-DD1E-4913-B441-FAA505B6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64AE-7F12-440F-B842-9A87A5EC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D893-94A0-46CD-89D9-87B6EBD0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B3AA-8E40-492E-8836-2EF68AD9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518B-8391-4F52-9045-6DD31EFA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A026-7BE4-4279-9909-77E58CFA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4B3A-771C-4778-BE80-09B2B4AF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ABCA-C997-4189-903F-38432228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D1B0-3717-4D51-9A8E-92CF0E24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0315-FACF-4F25-B1FC-1673C3F8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7E95-4A6B-4529-B698-CB5ABC3A7300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3F4B-5B9E-4D88-B816-558BFCD6050E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50_copias.pdf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mmunoz@cmvm.cl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571400" y="2285640"/>
            <a:ext cx="61434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Taller UTP, Jornada CMV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4 CuadroTexto"/>
          <p:cNvSpPr/>
          <p:nvPr/>
        </p:nvSpPr>
        <p:spPr>
          <a:xfrm>
            <a:off x="1285920" y="3857760"/>
            <a:ext cx="66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Calibri"/>
              </a:rPr>
              <a:t>Sebastián Saavedra Villase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Calibri"/>
              </a:rPr>
              <a:t>Miguel Muñoz Baqued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5 CuadroTexto"/>
          <p:cNvSpPr/>
          <p:nvPr/>
        </p:nvSpPr>
        <p:spPr>
          <a:xfrm>
            <a:off x="2714760" y="500076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Calibri"/>
              </a:rPr>
              <a:t>Viña del Mar, junio 2 del 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12"/>
          <p:cNvGrpSpPr/>
          <p:nvPr/>
        </p:nvGrpSpPr>
        <p:grpSpPr>
          <a:xfrm>
            <a:off x="6786720" y="214200"/>
            <a:ext cx="1713960" cy="1454040"/>
            <a:chOff x="6786720" y="214200"/>
            <a:chExt cx="1713960" cy="1454040"/>
          </a:xfrm>
        </p:grpSpPr>
        <p:pic>
          <p:nvPicPr>
            <p:cNvPr id="113" name="Picture 13" descr="log-cmvm"/>
            <p:cNvPicPr/>
            <p:nvPr/>
          </p:nvPicPr>
          <p:blipFill>
            <a:blip r:embed="rId1"/>
            <a:stretch/>
          </p:blipFill>
          <p:spPr>
            <a:xfrm>
              <a:off x="6786720" y="214200"/>
              <a:ext cx="1713960" cy="96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4" descr="Copia de logo02"/>
            <p:cNvPicPr/>
            <p:nvPr/>
          </p:nvPicPr>
          <p:blipFill>
            <a:blip r:embed="rId2"/>
            <a:stretch/>
          </p:blipFill>
          <p:spPr>
            <a:xfrm>
              <a:off x="6786720" y="1255320"/>
              <a:ext cx="1713960" cy="41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Contenidos: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57160" y="1214280"/>
            <a:ext cx="807264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Resúmenes ejecutivos de Programas CMV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Cultura de la Evidencia, acompañamiento crítico: Instrumentos de observación y registro (responsabilización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Objetivo Taller: Diseño y Elaboración de instrumento para el monitoreo, seguimiento y facilitación de los Programas de la Escuela, CMVM y otr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Contenidos: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57160" y="1785600"/>
            <a:ext cx="80726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Resúmenes ejecutivos de Programas CMV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7f7f7f"/>
                </a:solidFill>
                <a:latin typeface="Tahoma"/>
              </a:rPr>
              <a:t>Cultura de la Evidencia: Instrumentos de observación y registr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7f7f7f"/>
                </a:solidFill>
                <a:latin typeface="Tahoma"/>
              </a:rPr>
              <a:t>Objetivo Taller: Diseño y Elaboración de instrumento para el monitoreo, seguimiento y facilitación de los Programas de la CMV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aeaea"/>
                </a:solidFill>
                <a:latin typeface="Tahoma"/>
              </a:rPr>
              <a:t>Etapas constructivas I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56760" y="1214280"/>
            <a:ext cx="85726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Marco Teórico/Constructo/Planes y Program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Definir Dimensiones o rasgos a med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Selección, Diseño y Elaboración del instrum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Juicio y Análisis de exper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Aplicación, marcha blanca, aplicación pilo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Análisis Cuali/Cuant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Diseño Fi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Administración a situación re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Análisis de da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ahoma"/>
              </a:rPr>
              <a:t>Informe fi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aeaea"/>
                </a:solidFill>
                <a:latin typeface="Tahoma"/>
              </a:rPr>
              <a:t>Tipos de IO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320" y="1928520"/>
            <a:ext cx="754380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ista de cotejo, control o comprob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cala de apreci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úbr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Otros 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6 CuadroTexto"/>
          <p:cNvSpPr/>
          <p:nvPr/>
        </p:nvSpPr>
        <p:spPr>
          <a:xfrm>
            <a:off x="1000080" y="1214280"/>
            <a:ext cx="58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Gracias por su aten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7 CuadroTexto"/>
          <p:cNvSpPr/>
          <p:nvPr/>
        </p:nvSpPr>
        <p:spPr>
          <a:xfrm>
            <a:off x="857160" y="3643200"/>
            <a:ext cx="5540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iguel Muñoz Baqueda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ordinador de Gestión Curricular, Educación, CMV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el:       32-2272 4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-mail:  </a:t>
            </a:r>
            <a:r>
              <a:rPr b="0" lang="es-ES" sz="1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mmunoz@cmvm.c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Group 12"/>
          <p:cNvGrpSpPr/>
          <p:nvPr/>
        </p:nvGrpSpPr>
        <p:grpSpPr>
          <a:xfrm>
            <a:off x="7429680" y="357120"/>
            <a:ext cx="1713960" cy="1453320"/>
            <a:chOff x="7429680" y="357120"/>
            <a:chExt cx="1713960" cy="1453320"/>
          </a:xfrm>
        </p:grpSpPr>
        <p:pic>
          <p:nvPicPr>
            <p:cNvPr id="126" name="Picture 13" descr="log-cmvm"/>
            <p:cNvPicPr/>
            <p:nvPr/>
          </p:nvPicPr>
          <p:blipFill>
            <a:blip r:embed="rId2"/>
            <a:stretch/>
          </p:blipFill>
          <p:spPr>
            <a:xfrm>
              <a:off x="7429680" y="357120"/>
              <a:ext cx="1713960" cy="96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4" descr="Copia de logo02"/>
            <p:cNvPicPr/>
            <p:nvPr/>
          </p:nvPicPr>
          <p:blipFill>
            <a:blip r:embed="rId3"/>
            <a:stretch/>
          </p:blipFill>
          <p:spPr>
            <a:xfrm>
              <a:off x="7429680" y="1397880"/>
              <a:ext cx="1713960" cy="412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4T17:49:21Z</dcterms:created>
  <dc:creator>Administrador</dc:creator>
  <dc:description/>
  <dc:language>en-US</dc:language>
  <cp:lastModifiedBy>Administrador</cp:lastModifiedBy>
  <dcterms:modified xsi:type="dcterms:W3CDTF">2011-06-02T19:43:01Z</dcterms:modified>
  <cp:revision>72</cp:revision>
  <dc:subject/>
  <dc:title>Diapositiva 1</dc:title>
</cp:coreProperties>
</file>