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4.wmf" ContentType="image/x-wmf"/>
  <Override PartName="/ppt/media/image19.png" ContentType="image/png"/>
  <Override PartName="/ppt/media/image18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1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11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A501-C503-4C70-A0BA-1F8772A8BD2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1F70-E3D4-4C3C-8759-FC78792A458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F7B-3AB2-4BD3-9BA7-4BFB17AD9BD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4AC5-F20F-4B7F-8900-E67FA1185A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7BD-2716-4E3E-A23C-D931DA56773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51B-3EBE-469B-87F3-4773F40F0EA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2CFB-879A-4192-8E8A-BFEC71564F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F4A6-37FC-4B67-946A-644EB9702F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DD93-7873-4B04-A7B4-58A5A5738B8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7AD-63D3-4C5E-99C2-45BCBD9C1D2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CF13-708A-4CEF-A07B-FA47756F414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14F-005C-44F0-BEBC-7C373AD6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2D1-807A-4611-8B10-49F0109D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4E346-464C-4AFF-BA66-5EE493FB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FFEF0-E314-472D-AA66-D949724A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83181-EE81-4B6F-9338-323D84A8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2D379D-3DF0-4EF8-8AAE-8E0CD0F1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306973-9125-4CD6-AA9F-7E46123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B17C4-DC27-4868-9E27-C4DFAF38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9B0A84-E029-4649-9D5F-EA1284EC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305A19-26C6-47E6-8024-83F431059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F85654-4615-4FAE-9A90-1CB969F8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EAB78-C344-4A33-9B07-01DA5021D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CE1-0292-4F01-AA08-BE0315B6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1395F3-53EF-4F22-8304-86739ECD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561275-DE80-4B73-AEA2-828B6B3D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184DD8-0356-4613-BEAE-CAD2E944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BFAFF2-D943-4738-9E8D-102743C0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3B1ADB-618B-446C-A748-2675768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10DFD-748D-469E-97A5-87841A9F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FA28D9-E467-48D4-BEBF-B71E450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E3C950-F663-452A-9663-B69B15FB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F8B6FE-A07C-45F2-8D98-BAD3F932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A3D624-FA3B-4176-BDB7-F768E74E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4D1-1FED-4D53-8A7F-667D083F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496C90-E2B6-485E-B2FE-3ED6B081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986CDF-3573-43D8-B20D-B8F84F14E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235E3C-9AF7-4C4F-96D9-C0D0ECD7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53C01C-FB0B-4D32-AD46-EE2A340D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1E6AD6-E60E-4E86-8475-F5B86248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EF59C2-FBD9-48BF-B5F6-9150D8E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FCA9DE-B32C-47AD-AB46-609BB65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574C29-CFC6-4ABB-A700-64AA83E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5F2C5F-59C9-4F39-997C-2A02387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2E072-3144-4AD2-B2F0-FEBE425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6D98D-2216-4AD5-9366-2FA2AB69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72F03E-7900-456F-B264-B1758F6C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B4B5B5-98E0-424D-93B8-ADFB6B5B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BC0551-EC1C-42BE-8B7C-29E86C94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EAE8CF-5EA8-444F-A8B2-2210D98B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4C7B279-C8DC-450D-A469-AD6E7095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AA3418-BBDF-43FE-A1D7-24E25F9C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8E07C8-6F7F-4F1F-BE95-190845E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8A9353-9928-4696-AF7A-ADD386B8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57FD46-21BE-4E48-AA34-02424D26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1C2E44E-960B-4677-A6B8-91E4D5BB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51886-D3BB-4942-B4CF-737332C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575C3E-D691-4368-9BC3-F98CE0F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356CF4-F67D-474B-B91A-DBC568C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D9D252-9360-49EE-A476-66182B8B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A7D844-D001-4D58-B8C1-391145FC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E73FD0-09FC-4705-A4DB-35E4E2E2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723B4F-C5FF-4D7B-A52D-BDE1DAF5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80A093-1FEC-4B1E-8164-9339B57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BFC24A-D385-457B-A682-82D5CE22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05197-5FFF-4AE7-8D92-1D06206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24BF8C-2C4C-48C3-885F-9322C9C0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6D065-6668-41DC-8062-7622560B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AB9649-B322-4C31-A055-10F9204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062D3C-6011-43C6-8182-A20D459D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68D943-8091-48A7-BA46-628F380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34AF9D-3AEC-4186-9653-E853E10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567CF-0FDA-42F8-A204-636DFF6E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27F8A-5504-482E-A818-AF9BDAF7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A7CAEA-B287-446B-8964-C9F12CB9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FEA716-D25E-4C89-B464-28F6B5A7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5B0E2CF-E9FA-4AD6-9B06-36AFD9A4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BC27B0-4998-4770-ADA6-9360A26E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47D76-98F8-4CD3-9684-838AD732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180FB1-F67E-47C8-9D85-DBF38EEB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191AE5-8AAC-478E-965C-D032D50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86AB56-C998-4408-98F4-B0CF00EE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357CAD-F6B1-4DE4-BA50-0812D96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9782FF-7FD1-4FD4-A4DF-7466F61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1834D3-CA3C-4B3F-A5F5-732AD02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A51A079-7AF5-463D-9143-35DF6595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579E3C-59D2-4A20-88CC-3A75FC9C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E9EFF6-3196-461D-9B84-05740D47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C4ADF6-4138-4C77-8481-FAC94973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9E4E8-9257-4FD3-ABD4-789E8E4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2C31A5-2215-44BD-8D35-6783193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7C17B3E-7C45-434F-8E47-080DCCDF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99C936-997C-40F0-92EF-01B0D7F2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590EEE-CE14-4732-A309-1D4FE377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B09444-7984-414B-83F9-5DEDA96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D25F89-7756-463C-886C-CB2174F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A50E7C-6ECD-4E7D-A72E-D245F26B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D63F01-15FB-4F38-9A9B-2373AA78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993D1E-47A6-4335-9761-DAE244AF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A7661F-7491-4556-85ED-364B6EFD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E7854-7313-4E97-A06D-475F72A6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0E2F3B-421F-4BB8-8684-E8138987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80853D-7386-4E72-A404-964EAED6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873898B-DDA1-4F07-916F-D2BAFA48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39CECA-3A11-4096-98DD-40DE7642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932F5C-4121-4694-AFEE-6BCDFCA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0BCCF4-EFB3-4135-BABE-D557DF15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81831CB-D579-4D78-AD56-D179DD78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6FB02E-A2C7-47EB-88E2-03FDD7F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933B2E-0020-49D4-A696-11EF3671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BABC45-B8FF-4CA3-B100-7461516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8126D-8A70-435C-AD12-61CF2F0A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E8AD98-1F88-4322-8AAF-79A1543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80E9B1-F0D1-494C-B626-7EA3419E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FE3184-FFCD-4DE2-BF6C-E248C40C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BB907BD-6EC5-4978-B822-654F2DB6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03B733A-2AF9-4EB4-9286-0483546A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F4AC24-972B-4F4B-95CE-AFC52503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777B731-94FB-444C-A527-183B9B93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9D79A9-98A2-4CC9-856E-6498713A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E75C54-3473-424E-8ABD-38F93846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A08B72-93F5-48AC-BFB8-CC0F893E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750-EA0F-45F4-8711-5EA70B3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A257F-088A-4367-8E44-211AAAD8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4A2976-5591-4666-A8E7-8F46B402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417CC77-4A1C-4B0E-A295-93D72D30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7A8E44-1B36-44B9-9BEE-8FCC35A8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692CD3-AC49-48C4-B426-E1EB7AA9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BAD6AD-E7DC-4A67-9F96-DAA50AD8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FF8438B-B884-41AC-BD9C-3728FBDE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93E600-8781-4007-BC29-254DE686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E626B4-03B7-40DC-A256-777C9E0E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F522CEE-9EF6-43A5-A0B4-C41D1E3C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2D6980D-5E71-49AE-B0F4-D3CA505A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B7FE4-EC3D-4A9C-A28F-79099D47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E841CD-8F8B-4727-9842-C0B39FB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50AB1E-AE5C-47F2-9C2B-4A47BE2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078D85E-3456-4757-B660-856449AA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F5488CF-76CE-466E-93CC-AE035B2A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BB99F54-03BF-4F04-A8C8-7BA37C39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B894FE-5E61-4F81-83C8-6B08BB3D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C1F1B19-4386-4420-9F43-CE7FA4AE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E02C0EA-9C61-4AFF-8E3F-1ABF887A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F6F4327-D967-4A0D-A204-541DAF38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A0B592D-3091-4924-8E22-173D4A3A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3A25F-F0D9-4BB2-822B-61A1C9A5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5912E1-BBB4-4963-A5A7-BFC9ED2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42B5EF-8BAB-4310-BBEC-26F92117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17D118D-E962-4BDF-92B6-FD572F36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6728C6E-0E5F-46B4-A444-ACC4AB6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B763F12-1CC8-4E9D-A4C8-7193B015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8A00E0-F3F9-4B0F-B357-5F83C31E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8A053EB-6F22-4E87-BB5D-1867EE27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8BDDFD6-2F54-4201-B77E-1FF00791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5F9C12-4AF6-4D96-AF28-B2E4B37D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A03AE07-2738-407D-8A46-C6226E82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E6FDF-9722-47D9-85A2-AECD4853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9FCEFF-933D-4C9E-A82C-AC6E4254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D608B8B-28E3-417C-8DE3-3236B091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2EC4DBE-5647-4C3B-AAA6-C86DD3E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67B4C3-9C4D-4CE5-8006-D69A48BF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82CE9F-F31F-473B-A4FE-35CA5FA5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1023EA-DC82-497C-93B4-821871B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0DCD12-50E2-4702-82C2-461188B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0ACBC4-FE46-48CE-B57B-582EB3A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2D4D49-4AD1-4226-B43F-D4B5CDCB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B4FCD9-C89D-40ED-B8EC-F6B6FBEA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E437-A28E-4BAD-BFD5-CFECBF46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F508E8-79BD-472C-851E-FD8EE6B4B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B418609-A005-457D-8748-EE2271E6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1CDCA7-2821-44F6-962C-69E62AD2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EA77CF-0F7A-4AA5-9639-9FA962D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6EE1441-6965-406F-B735-FBFB1DEB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F9D4E88-0FF2-4557-8A4C-92BA1472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0BCE3E1-B244-479E-91D1-B446A857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2320BA8-7614-4381-AE61-34E3F5E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3DC5E46-0545-4B5B-870C-A3AEEEE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905FA3-1793-4B8F-B7D0-079378F8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113F6-9E37-44A1-B6A4-20AEC1A6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2752527-30E4-498C-A335-F575A33A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CBCB451-577E-4C38-BD3B-2C848C79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AFD11EE-9A39-4A10-9B39-C7783194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F68DC2-2AE1-425D-B858-2B52627B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97319-A80F-4F0C-B9F8-79A7DD50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38B28-70BC-4DFB-83B7-540CC41F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994BD-E3B3-4CB1-8C26-99D48BCA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A7CA-6634-44C6-AAF3-E6DB70E2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49213-0876-4FC6-9D7E-5840503E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A518F-9256-4BF8-BDDD-20CC766D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D38AFD-25A5-4C58-94BC-3DEA8A44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A5B5D-5464-46F3-B6DC-2EE06BF3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F5FC1-9902-4F4E-9EB5-7F14DBE2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197F9C-8272-43B5-AFDD-C358EEFE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8C255-F917-40F6-A082-710302BE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435F2-EAB6-4FC7-B92D-773F9125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AB9DB-721C-48BE-A6B3-8D8CF037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8A9E7-8837-4836-819F-767EBC73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B21-4DB3-4EA6-95B1-21EA1BC5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CE61F-4B06-4059-AFFF-1E1D8405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CBC5DE-4DBA-4F57-97EE-58E6E0DA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54193-E4A6-49F2-AA2D-225826E9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1068A-E5EF-4D35-A139-02CD21E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D8BC7-13B9-4140-AFB7-70065AE4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564FA9-6C57-4591-9A19-A2D14DAF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841191-06B1-47CA-95C9-714110E2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3F3A6-0E32-4A2A-8212-269726E1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B833E-E591-4E87-B1A6-AB89B0D6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98F26C-7336-464B-A3EE-BBC8A573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EFC-6F36-4790-836A-1011D9C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D8320-002F-443F-AF2F-8A17637B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5AF10B-1B70-4860-A998-32CD465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7BD44-9A2A-4824-A3B5-CE8E64B9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C9BA5-BF40-4D8E-80C5-47B6D9F9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00A65-5B7C-41DE-A8CE-8FD007B6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0B37E-0DDA-4FCB-B3A8-0448DD2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8E02B-B472-49A1-BF04-4059164D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63A99-465A-49CF-A583-6BB159FC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8CFAF-336F-4CB5-B9E8-8AFC38A7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1D3882-A5E1-47CB-9CC3-7A27CD88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FF0-D2F1-4CF5-AF8D-FA0B0F20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22259-8D73-4F5B-BA1A-9E8C7C53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F53F84-4435-42B8-AE15-46A0C732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8BA0A-D38C-4641-AD41-D1DF69C8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C3B3AB-4922-438B-95B2-6FDCB32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FADCE-813A-4523-A324-5FA5FDD7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0C8831-15BA-41FB-B5CA-BDB5329A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EAA02-F7FB-495D-915E-C682B975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9C92F-3655-42BA-B9C5-FCD7C49E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498CB-CE2D-4EFF-9600-CB331207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603CE-8432-42B6-8EB5-470D12A8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EB1-5AB5-4666-B1F6-B2E3D227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D83F0-DA2C-4DCB-B842-8006F534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16A7F-06A8-4058-A036-B7978CB2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41657-A306-40A5-AD47-6437DBEC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89EC4-3A47-4513-846A-2140E58A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E02C9-0EC1-4A94-88F7-88052CE6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D9F998-6D92-4732-9A1C-7C97A0DF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7F731-7924-4894-A43A-DAECF9C7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73E95F-0829-49C4-8878-C4BB344B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295C6-6CE3-4B99-8873-990F0A4E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DDA0E-FA61-466B-94A2-9AC1F46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439-29EC-4C8F-A729-CBDC9B9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5221DF-A9A3-4CF8-9C85-8F907A3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D0BB65-F875-483C-B12C-84AE594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22DBB-70D9-4D47-91B1-483C821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8E7F9-819A-429F-8D7E-E0E011F7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5BD67-EA19-471D-AACB-9E71BED3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E7521-B464-4362-A697-4CFD8997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74C99-333A-4DE5-8515-772F5AA4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5B2F70-B733-49F8-8140-8E409CF6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617F92-B386-42CB-BF69-86C87126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C0783C-C476-4A0E-9DBE-96A289E5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FF3-C7B1-4278-9D3F-D4973E9D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FE69E1-6143-4D8E-9216-5232FDDF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7FA26-AEB8-4021-8BB3-56119CC4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C08BDD-6EB0-4AC7-BFFD-A6F1BD3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4A175C-9B17-4333-8EE4-E0AB31D8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3B0CE0-E7DC-4C9B-9C74-D4959F5A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7912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47912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6DDD23-E98E-477D-8DDA-F0159CE5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1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76504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1111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76504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9F5F58-2DC1-42D4-A3FE-856605BC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6B57F-E274-47EB-9A33-502DEDFC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1EEBC-8DA4-4FFA-8B05-9A66F8FB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106BF-8AC1-4300-A42D-74D78201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23DC-3977-43B6-A229-7334790C15A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9"/>
          <p:cNvSpPr/>
          <p:nvPr/>
        </p:nvSpPr>
        <p:spPr>
          <a:xfrm>
            <a:off x="888984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C20-5E30-42E1-B292-9C65A95E7EB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3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3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498-6F89-4822-BED0-BFCE553F9501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ftr" idx="3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3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BA64-E0E1-4099-A72F-72490A132D6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6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3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2A8B-5C81-4866-9F0B-46FEAB1F41D4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sldNum" idx="4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947F-7898-4F96-8136-D4827EB52E4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4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sldNum" idx="4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81C8-C683-468F-B0AC-1452ACE0C25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ftr" idx="4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sldNum" idx="4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96A4-49A4-4EA9-8BF5-EB97C1BF61C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ftr" idx="4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5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C4A8-2010-46DC-8448-93C2D4EA1B9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ftr" idx="5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sldNum" idx="5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81CE-4EC4-4E08-BFE2-40AF0EF0CCA3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sldNum" idx="5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A1E-E05A-498F-80CB-1125F2F02FA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ftr" idx="5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7162920" y="136440"/>
            <a:ext cx="228600" cy="52578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7467480" y="133200"/>
            <a:ext cx="1447920" cy="52578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822C-46E1-44F8-9C02-280FDADCC1AA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 rot="16200000">
            <a:off x="7296120" y="3698640"/>
            <a:ext cx="2933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58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sldNum" idx="59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C33-83AD-4635-91EA-B488993D2434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ftr" idx="60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61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62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3C40-8FB0-4739-821D-375DF3FB3A77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ftr" idx="63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A2B8-053A-407A-B800-B57D95E83CB6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9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885C-29FD-4D21-A6BA-51CFDB57229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25C3-F0AB-46B2-B2A1-817C1C02BF9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4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2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 flipV="1" rot="10800000">
            <a:off x="434520" y="6171120"/>
            <a:ext cx="7086600" cy="6858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434880" y="0"/>
            <a:ext cx="7086600" cy="1981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7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425D-FB8F-426C-87A7-F13CECAB3C2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8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20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DC2-F682-423A-9200-C72A468B606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1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4A1-A7BA-4C3C-A298-657B751D5A4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 rot="16200000">
            <a:off x="5315760" y="3269520"/>
            <a:ext cx="6858000" cy="318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 rot="16200000">
            <a:off x="5628240" y="3342240"/>
            <a:ext cx="6858000" cy="1731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896320" y="0"/>
            <a:ext cx="763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 rot="16200000">
            <a:off x="7696080" y="1012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 rot="5400000">
            <a:off x="8278920" y="5962680"/>
            <a:ext cx="96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FABA-043B-4E9B-BB92-F920FD48FEE4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93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/>
          </p:nvPr>
        </p:nvSpPr>
        <p:spPr>
          <a:xfrm>
            <a:off x="571320" y="442908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b050"/>
                </a:solidFill>
                <a:latin typeface="Calibri"/>
              </a:rPr>
              <a:t>“</a:t>
            </a:r>
            <a:r>
              <a:rPr b="1" lang="es-CL" sz="2400" spc="-1" strike="noStrike">
                <a:solidFill>
                  <a:srgbClr val="00b050"/>
                </a:solidFill>
                <a:latin typeface="Calibri"/>
              </a:rPr>
              <a:t>DE SINGAPUR  A NUESTRAS AULAS EN VIÑA  DEL MAR”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70c0"/>
                </a:solidFill>
                <a:latin typeface="Calibri"/>
              </a:rPr>
              <a:t>SEGUNDA REUNION  CON UTP  CMVM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1859c"/>
                </a:solidFill>
                <a:latin typeface="Calibri"/>
              </a:rPr>
              <a:t>Rose Marie Durán Alvarado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1859c"/>
                </a:solidFill>
                <a:latin typeface="Calibri"/>
              </a:rPr>
              <a:t>02 de Junio del 201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4" name="5 Marcador de posición de imagen" descr="IMG01040-20101201-0852.jpg"/>
          <p:cNvPicPr/>
          <p:nvPr/>
        </p:nvPicPr>
        <p:blipFill>
          <a:blip r:embed="rId1"/>
          <a:stretch/>
        </p:blipFill>
        <p:spPr>
          <a:xfrm rot="21118800">
            <a:off x="172800" y="526680"/>
            <a:ext cx="3663720" cy="27478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35" name="6 Imagen" descr="IMG01041-20101201-0853.jpg"/>
          <p:cNvPicPr/>
          <p:nvPr/>
        </p:nvPicPr>
        <p:blipFill>
          <a:blip r:embed="rId2"/>
          <a:stretch/>
        </p:blipFill>
        <p:spPr>
          <a:xfrm>
            <a:off x="4000680" y="1143000"/>
            <a:ext cx="421452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010720" cy="55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3 Imagen" descr="http://www.seigard.cl/_files/CA_5604.jpg"/>
          <p:cNvPicPr/>
          <p:nvPr/>
        </p:nvPicPr>
        <p:blipFill>
          <a:blip r:embed="rId1"/>
          <a:stretch/>
        </p:blipFill>
        <p:spPr>
          <a:xfrm>
            <a:off x="1138320" y="500040"/>
            <a:ext cx="5790960" cy="5789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1f497d"/>
                </a:solidFill>
                <a:latin typeface="Calibri"/>
              </a:rPr>
              <a:t>Para el presente año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0" name="5 Marcador de número de diapositiva"/>
          <p:cNvSpPr/>
          <p:nvPr/>
        </p:nvSpPr>
        <p:spPr>
          <a:xfrm rot="16200000">
            <a:off x="7162920" y="383220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436B-4022-4351-A28B-517065A3D0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6 Diagrama" descr=""/>
          <p:cNvPicPr/>
          <p:nvPr/>
        </p:nvPicPr>
        <p:blipFill>
          <a:blip r:embed="rId1"/>
          <a:stretch/>
        </p:blipFill>
        <p:spPr>
          <a:xfrm>
            <a:off x="195120" y="1390680"/>
            <a:ext cx="8541000" cy="548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4 Diagrama" descr=""/>
          <p:cNvPicPr/>
          <p:nvPr/>
        </p:nvPicPr>
        <p:blipFill>
          <a:blip r:embed="rId1"/>
          <a:stretch/>
        </p:blipFill>
        <p:spPr>
          <a:xfrm>
            <a:off x="298440" y="237960"/>
            <a:ext cx="8296200" cy="529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3 Marcador de posición de imagen" descr="Bloques multibase segundo basico.jpg"/>
          <p:cNvPicPr/>
          <p:nvPr/>
        </p:nvPicPr>
        <p:blipFill>
          <a:blip r:embed="rId1"/>
          <a:srcRect l="21813" t="0" r="21813" b="0"/>
          <a:stretch/>
        </p:blipFill>
        <p:spPr>
          <a:xfrm>
            <a:off x="357120" y="0"/>
            <a:ext cx="3695760" cy="48211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64" name="4 Imagen" descr="Bloques multibase.jpg"/>
          <p:cNvPicPr/>
          <p:nvPr/>
        </p:nvPicPr>
        <p:blipFill>
          <a:blip r:embed="rId2"/>
          <a:stretch/>
        </p:blipFill>
        <p:spPr>
          <a:xfrm>
            <a:off x="4064040" y="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965" name="5 CuadroTexto"/>
          <p:cNvSpPr/>
          <p:nvPr/>
        </p:nvSpPr>
        <p:spPr>
          <a:xfrm>
            <a:off x="714240" y="4929120"/>
            <a:ext cx="77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Calibri"/>
              </a:rPr>
              <a:t>BLOQUES MULTIBASE  O BASE 10: 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NUMERACION Y OPER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ORMAR, ORDENAR, COMPARAR NUMEROS. (VALOR POSIC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DICION Y SUSTRACCION SIN CAN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DICION Y SUSTRACCION CON C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4 Diagrama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327880" cy="605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/>
          </p:nvPr>
        </p:nvSpPr>
        <p:spPr>
          <a:xfrm>
            <a:off x="714240" y="0"/>
            <a:ext cx="4857840" cy="84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1f497d"/>
                </a:solidFill>
                <a:latin typeface="Calibri"/>
              </a:rPr>
              <a:t>Cronograma  Geometría cuarto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68" name="6 Imagen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286840" cy="46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/>
          </p:nvPr>
        </p:nvSpPr>
        <p:spPr>
          <a:xfrm>
            <a:off x="714240" y="0"/>
            <a:ext cx="4857840" cy="84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f497d"/>
                </a:solidFill>
                <a:latin typeface="Calibri"/>
              </a:rPr>
              <a:t>Cronograma  Geometría tercero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70" name="Picture 1" descr=""/>
          <p:cNvPicPr/>
          <p:nvPr/>
        </p:nvPicPr>
        <p:blipFill>
          <a:blip r:embed="rId1"/>
          <a:stretch/>
        </p:blipFill>
        <p:spPr>
          <a:xfrm>
            <a:off x="0" y="1143000"/>
            <a:ext cx="8199360" cy="47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5 CuadroTexto"/>
          <p:cNvSpPr/>
          <p:nvPr/>
        </p:nvSpPr>
        <p:spPr>
          <a:xfrm>
            <a:off x="714240" y="52862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Calibri"/>
              </a:rPr>
              <a:t>BLOQUES LOGICOS : GEOMETRIA Y PATR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7 Imagen" descr="Bloques logicos 1°.jpg"/>
          <p:cNvPicPr/>
          <p:nvPr/>
        </p:nvPicPr>
        <p:blipFill>
          <a:blip r:embed="rId1"/>
          <a:stretch/>
        </p:blipFill>
        <p:spPr>
          <a:xfrm>
            <a:off x="1357200" y="773280"/>
            <a:ext cx="5643720" cy="42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2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2476440" cy="26956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3" descr=""/>
          <p:cNvPicPr/>
          <p:nvPr/>
        </p:nvPicPr>
        <p:blipFill>
          <a:blip r:embed="rId2"/>
          <a:stretch/>
        </p:blipFill>
        <p:spPr>
          <a:xfrm>
            <a:off x="4214880" y="142920"/>
            <a:ext cx="2523960" cy="2467080"/>
          </a:xfrm>
          <a:prstGeom prst="rect">
            <a:avLst/>
          </a:prstGeom>
          <a:ln w="0">
            <a:noFill/>
          </a:ln>
        </p:spPr>
      </p:pic>
      <p:sp>
        <p:nvSpPr>
          <p:cNvPr id="975" name="5 CuadroTexto"/>
          <p:cNvSpPr/>
          <p:nvPr/>
        </p:nvSpPr>
        <p:spPr>
          <a:xfrm>
            <a:off x="2571840" y="28576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c00000"/>
                </a:solidFill>
                <a:latin typeface="Calibri"/>
              </a:rPr>
              <a:t>GEOPLANOS Y BLOQUES POLIGIONALES  : GEOME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4" descr=""/>
          <p:cNvPicPr/>
          <p:nvPr/>
        </p:nvPicPr>
        <p:blipFill>
          <a:blip r:embed="rId3"/>
          <a:stretch/>
        </p:blipFill>
        <p:spPr>
          <a:xfrm>
            <a:off x="1071720" y="3286080"/>
            <a:ext cx="696276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/>
          </p:nvPr>
        </p:nvSpPr>
        <p:spPr>
          <a:xfrm rot="5400000">
            <a:off x="5583600" y="2202480"/>
            <a:ext cx="5143680" cy="116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Matemática Singapur en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3600" spc="-1" strike="noStrike">
                <a:solidFill>
                  <a:srgbClr val="ffffff"/>
                </a:solidFill>
                <a:latin typeface="Calibri"/>
              </a:rPr>
              <a:t>CMVM 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37" name="2 Diagrama" descr=""/>
          <p:cNvPicPr/>
          <p:nvPr/>
        </p:nvPicPr>
        <p:blipFill>
          <a:blip r:embed="rId1"/>
          <a:stretch/>
        </p:blipFill>
        <p:spPr>
          <a:xfrm>
            <a:off x="195120" y="133200"/>
            <a:ext cx="6755040" cy="551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5" descr=""/>
          <p:cNvPicPr/>
          <p:nvPr/>
        </p:nvPicPr>
        <p:blipFill>
          <a:blip r:embed="rId1"/>
          <a:srcRect l="15498" t="0" r="15498" b="0"/>
          <a:stretch/>
        </p:blipFill>
        <p:spPr>
          <a:xfrm>
            <a:off x="142920" y="0"/>
            <a:ext cx="2857320" cy="21430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978" name="Picture 4" descr=""/>
          <p:cNvPicPr/>
          <p:nvPr/>
        </p:nvPicPr>
        <p:blipFill>
          <a:blip r:embed="rId2"/>
          <a:stretch/>
        </p:blipFill>
        <p:spPr>
          <a:xfrm>
            <a:off x="3214800" y="0"/>
            <a:ext cx="2714400" cy="2216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"/>
          <p:cNvPicPr/>
          <p:nvPr/>
        </p:nvPicPr>
        <p:blipFill>
          <a:blip r:embed="rId3"/>
          <a:stretch/>
        </p:blipFill>
        <p:spPr>
          <a:xfrm>
            <a:off x="0" y="2643120"/>
            <a:ext cx="3000240" cy="26337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" descr=""/>
          <p:cNvPicPr/>
          <p:nvPr/>
        </p:nvPicPr>
        <p:blipFill>
          <a:blip r:embed="rId4"/>
          <a:stretch/>
        </p:blipFill>
        <p:spPr>
          <a:xfrm>
            <a:off x="6072120" y="0"/>
            <a:ext cx="2590920" cy="23162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2" descr=""/>
          <p:cNvPicPr/>
          <p:nvPr/>
        </p:nvPicPr>
        <p:blipFill>
          <a:blip r:embed="rId5"/>
          <a:stretch/>
        </p:blipFill>
        <p:spPr>
          <a:xfrm>
            <a:off x="3357720" y="3214800"/>
            <a:ext cx="4948200" cy="171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3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6 Diagrama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7809120" cy="610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3" descr=""/>
          <p:cNvPicPr/>
          <p:nvPr/>
        </p:nvPicPr>
        <p:blipFill>
          <a:blip r:embed="rId1"/>
          <a:stretch/>
        </p:blipFill>
        <p:spPr>
          <a:xfrm>
            <a:off x="928800" y="2858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856800" y="5428800"/>
            <a:ext cx="692964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f497d"/>
                </a:solidFill>
                <a:latin typeface="Calibri"/>
              </a:rPr>
              <a:t>Octubre 2010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f497d"/>
                </a:solidFill>
                <a:latin typeface="Calibri"/>
              </a:rPr>
              <a:t>Ben Har y su clase demostrativa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f497d"/>
                </a:solidFill>
                <a:latin typeface="Calibri"/>
              </a:rPr>
              <a:t>Equipo de relatores  CMVM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6000480" y="6000480"/>
            <a:ext cx="3143160" cy="857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9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Calibri"/>
              </a:rPr>
              <a:t>Diciembre  2010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c00000"/>
                </a:solidFill>
                <a:latin typeface="Calibri"/>
              </a:rPr>
              <a:t>Capacitación Docente1° a 4° básico 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1" name="3 Imagen" descr="IMG01319-20101230-1243.jpg"/>
          <p:cNvPicPr/>
          <p:nvPr/>
        </p:nvPicPr>
        <p:blipFill>
          <a:blip r:embed="rId1"/>
          <a:stretch/>
        </p:blipFill>
        <p:spPr>
          <a:xfrm>
            <a:off x="0" y="0"/>
            <a:ext cx="4253040" cy="2857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"/>
          <p:cNvPicPr/>
          <p:nvPr/>
        </p:nvPicPr>
        <p:blipFill>
          <a:blip r:embed="rId2"/>
          <a:stretch/>
        </p:blipFill>
        <p:spPr>
          <a:xfrm>
            <a:off x="0" y="2143080"/>
            <a:ext cx="4286160" cy="2286000"/>
          </a:xfrm>
          <a:prstGeom prst="rect">
            <a:avLst/>
          </a:prstGeom>
          <a:ln w="0">
            <a:noFill/>
          </a:ln>
        </p:spPr>
      </p:pic>
      <p:pic>
        <p:nvPicPr>
          <p:cNvPr id="943" name="5 Imagen" descr="Capacitacion 2010 2.jpg"/>
          <p:cNvPicPr/>
          <p:nvPr/>
        </p:nvPicPr>
        <p:blipFill>
          <a:blip r:embed="rId3"/>
          <a:stretch/>
        </p:blipFill>
        <p:spPr>
          <a:xfrm>
            <a:off x="473220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944" name="7 Imagen" descr="Capacitacion 2010 3.jpg"/>
          <p:cNvPicPr/>
          <p:nvPr/>
        </p:nvPicPr>
        <p:blipFill>
          <a:blip r:embed="rId4"/>
          <a:stretch/>
        </p:blipFill>
        <p:spPr>
          <a:xfrm>
            <a:off x="4214880" y="2928960"/>
            <a:ext cx="4286160" cy="2722680"/>
          </a:xfrm>
          <a:prstGeom prst="rect">
            <a:avLst/>
          </a:prstGeom>
          <a:ln w="0">
            <a:noFill/>
          </a:ln>
        </p:spPr>
      </p:pic>
      <p:pic>
        <p:nvPicPr>
          <p:cNvPr id="945" name="8 Imagen" descr="Capacitacion 2010 4.jpg"/>
          <p:cNvPicPr/>
          <p:nvPr/>
        </p:nvPicPr>
        <p:blipFill>
          <a:blip r:embed="rId5"/>
          <a:stretch/>
        </p:blipFill>
        <p:spPr>
          <a:xfrm>
            <a:off x="0" y="4011480"/>
            <a:ext cx="4929120" cy="2846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2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5143680" y="1142640"/>
            <a:ext cx="3714480" cy="1785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Diciembre 2010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Colegio Miraflor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Ayuda memoria para docent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f497d"/>
                </a:solidFill>
                <a:latin typeface="Calibri"/>
              </a:rPr>
              <a:t>Fases de la Rutina Pedagógica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47" name="Picture 3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4780080" cy="564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2 Diagrama" descr=""/>
          <p:cNvPicPr/>
          <p:nvPr/>
        </p:nvPicPr>
        <p:blipFill>
          <a:blip r:embed="rId1"/>
          <a:stretch/>
        </p:blipFill>
        <p:spPr>
          <a:xfrm>
            <a:off x="298440" y="133200"/>
            <a:ext cx="6827760" cy="6091560"/>
          </a:xfrm>
          <a:prstGeom prst="rect">
            <a:avLst/>
          </a:prstGeom>
          <a:ln w="0">
            <a:noFill/>
          </a:ln>
        </p:spPr>
      </p:pic>
      <p:sp>
        <p:nvSpPr>
          <p:cNvPr id="949" name="3 Rectángulo"/>
          <p:cNvSpPr/>
          <p:nvPr/>
        </p:nvSpPr>
        <p:spPr>
          <a:xfrm rot="5400000">
            <a:off x="5825880" y="24447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Matemática Singapu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002060"/>
                </a:solidFill>
                <a:latin typeface="Calibri"/>
              </a:rPr>
              <a:t>CMVM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/>
          </p:nvPr>
        </p:nvSpPr>
        <p:spPr>
          <a:xfrm>
            <a:off x="428400" y="0"/>
            <a:ext cx="5072040" cy="3808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txBody>
          <a:bodyPr anchor="ctr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ATERIALES  PARA LA SALA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28400" y="2785680"/>
            <a:ext cx="7086600" cy="3357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cta numérica Pizarra 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Recta numérica mesas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blero Valor Posicional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Panel de palabras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Tablero de 100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f497d"/>
                </a:solidFill>
                <a:latin typeface="Calibri"/>
              </a:rPr>
              <a:t>Colegio Cardenal Caro  Abril 2011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952" name="10 Marcador de posición de imagen" descr="IMG01301-20101230-1232.jpg"/>
          <p:cNvPicPr/>
          <p:nvPr/>
        </p:nvPicPr>
        <p:blipFill>
          <a:blip r:embed="rId1"/>
          <a:srcRect l="9681" t="0" r="9681" b="0"/>
          <a:stretch/>
        </p:blipFill>
        <p:spPr>
          <a:xfrm>
            <a:off x="2643120" y="571680"/>
            <a:ext cx="2362320" cy="2197080"/>
          </a:xfrm>
          <a:prstGeom prst="rect">
            <a:avLst/>
          </a:prstGeom>
          <a:ln w="0">
            <a:noFill/>
          </a:ln>
        </p:spPr>
      </p:pic>
      <p:pic>
        <p:nvPicPr>
          <p:cNvPr id="953" name="12 Marcador de posición de imagen" descr="IMG01307-20101230-1234.jpg"/>
          <p:cNvPicPr/>
          <p:nvPr/>
        </p:nvPicPr>
        <p:blipFill>
          <a:blip r:embed="rId2"/>
          <a:srcRect l="12504" t="0" r="12504" b="0"/>
          <a:stretch/>
        </p:blipFill>
        <p:spPr>
          <a:xfrm>
            <a:off x="428760" y="57168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954" name="14 Marcador de posición de imagen" descr="IMG01306-20101230-1234.jpg"/>
          <p:cNvPicPr/>
          <p:nvPr/>
        </p:nvPicPr>
        <p:blipFill>
          <a:blip r:embed="rId3"/>
          <a:srcRect l="12504" t="0" r="12504" b="0"/>
          <a:stretch/>
        </p:blipFill>
        <p:spPr>
          <a:xfrm>
            <a:off x="5000760" y="57168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711180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785880" y="428760"/>
            <a:ext cx="7111800" cy="53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02:33:43Z</dcterms:created>
  <dc:creator/>
  <dc:description/>
  <cp:keywords/>
  <dc:language>en-US</dc:language>
  <cp:lastModifiedBy/>
  <dcterms:modified xsi:type="dcterms:W3CDTF">2011-06-02T06:19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769259990</vt:lpwstr>
  </property>
</Properties>
</file>