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84D4-157D-4723-912B-4A041520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7CC-524A-43DB-8B6D-AC283AAB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619-5949-486D-A679-8CF7A263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373-FC39-40AF-9811-96B72481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D120-C6B2-4922-8588-86BFCC3E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00FE-7291-4A17-B569-3DEBE7A4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1994-52D2-4914-B4F0-950D5D64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FB00-2BCA-4CE7-8E61-51455186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576C-E8F7-4EFD-B8FE-EC0B5CD6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989F-58A9-4C65-B34E-81673281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8EF2-8733-44F8-8C24-5C5BE5A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3056-554E-4D93-8C54-2EADAB14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9D77-CB5F-4042-B90A-F962BF41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FECC-F43D-489D-97D4-3014291D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135A-1DCF-4689-BCBF-374E6CA6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1A0E-7458-479B-AA1F-5A7BAFC3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7149-977E-47C3-9019-4A466B87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CEF-4FA4-492F-BB05-97A07773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114-7E7E-4C83-B8DD-66E4E309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978-5ED3-499B-998D-0D912BF9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EC7-84AE-4B4C-AE81-33C22729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BE2-B1B2-4D15-9EEF-9C6CE3E5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39F-6EA4-437B-924F-AE1D41CA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12C-E7D6-4765-B37A-6D396EDE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A31D-A32C-4A21-A6EB-B16C1218D09C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E9FF-D52E-40EB-A399-D5450AF23EC3}" type="slidenum">
              <a:rPr b="0" lang="es-ES_trad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RODUC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22" descr="j0195812"/>
          <p:cNvPicPr/>
          <p:nvPr/>
        </p:nvPicPr>
        <p:blipFill>
          <a:blip r:embed="rId1"/>
          <a:stretch/>
        </p:blipFill>
        <p:spPr>
          <a:xfrm>
            <a:off x="7834320" y="5510160"/>
            <a:ext cx="1309680" cy="1347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457280" y="1914480"/>
            <a:ext cx="6083280" cy="7723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7559640" y="212760"/>
            <a:ext cx="13161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etodología Indagatori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2420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1258920" y="1773360"/>
            <a:ext cx="415800" cy="792000"/>
          </a:xfrm>
          <a:prstGeom prst="downArrow">
            <a:avLst>
              <a:gd name="adj1" fmla="val 50000"/>
              <a:gd name="adj2" fmla="val 4761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395280" y="3141720"/>
            <a:ext cx="2448000" cy="57636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FOCAL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V="1">
            <a:off x="3132000" y="2923920"/>
            <a:ext cx="1295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4716360" y="2133720"/>
            <a:ext cx="3708360" cy="93636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dentificación del problema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ceptos en base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terrog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132000" y="3573360"/>
            <a:ext cx="122400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4643280" y="3716280"/>
            <a:ext cx="3673800" cy="57636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luvia de idea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1332000" y="4076640"/>
            <a:ext cx="341280" cy="719280"/>
          </a:xfrm>
          <a:prstGeom prst="downArrow">
            <a:avLst>
              <a:gd name="adj1" fmla="val 50000"/>
              <a:gd name="adj2" fmla="val 5269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>
            <a:off x="324000" y="5157720"/>
            <a:ext cx="2590560" cy="60984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XPLO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 flipV="1">
            <a:off x="3059280" y="5157360"/>
            <a:ext cx="144144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4716360" y="4869000"/>
            <a:ext cx="3170520" cy="36036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edi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3059280" y="5661000"/>
            <a:ext cx="129528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4500720" y="5661000"/>
            <a:ext cx="2808000" cy="43200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ormulación de hipóte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1332000" y="5877000"/>
            <a:ext cx="414360" cy="787320"/>
          </a:xfrm>
          <a:prstGeom prst="downArrow">
            <a:avLst>
              <a:gd name="adj1" fmla="val 50000"/>
              <a:gd name="adj2" fmla="val 4750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2" descr="j0195812"/>
          <p:cNvPicPr/>
          <p:nvPr/>
        </p:nvPicPr>
        <p:blipFill>
          <a:blip r:embed="rId1"/>
          <a:stretch/>
        </p:blipFill>
        <p:spPr>
          <a:xfrm>
            <a:off x="7834320" y="5510160"/>
            <a:ext cx="1309680" cy="1347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8083440" y="212760"/>
            <a:ext cx="79236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4"/>
          <p:cNvSpPr/>
          <p:nvPr/>
        </p:nvSpPr>
        <p:spPr>
          <a:xfrm>
            <a:off x="179280" y="333360"/>
            <a:ext cx="2411640" cy="50328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EXPERIMENTACIÓN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2843280" y="62064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4859280" y="189000"/>
            <a:ext cx="3960720" cy="107928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alizar los experim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ara comprobar l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edicciones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tras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971640" y="1052640"/>
            <a:ext cx="485640" cy="792000"/>
          </a:xfrm>
          <a:prstGeom prst="downArrow">
            <a:avLst>
              <a:gd name="adj1" fmla="val 50000"/>
              <a:gd name="adj2" fmla="val 4077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250920" y="2492280"/>
            <a:ext cx="2160360" cy="43200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REFLEXIÓN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3059280" y="2708280"/>
            <a:ext cx="122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4859280" y="2060640"/>
            <a:ext cx="3600360" cy="93672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testar pregu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 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¿ QUÉ APRENDÍ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1"/>
          <p:cNvSpPr/>
          <p:nvPr/>
        </p:nvSpPr>
        <p:spPr>
          <a:xfrm>
            <a:off x="971640" y="3357720"/>
            <a:ext cx="485640" cy="792000"/>
          </a:xfrm>
          <a:prstGeom prst="downArrow">
            <a:avLst>
              <a:gd name="adj1" fmla="val 50000"/>
              <a:gd name="adj2" fmla="val 4077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250920" y="4653000"/>
            <a:ext cx="2232000" cy="60948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PL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 flipV="1">
            <a:off x="3059280" y="4149360"/>
            <a:ext cx="1368360" cy="43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5003640" y="3789360"/>
            <a:ext cx="2881440" cy="50328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dquirir autonom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3132000" y="49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5003640" y="4508640"/>
            <a:ext cx="2521080" cy="60948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alizar autocrí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17"/>
          <p:cNvSpPr/>
          <p:nvPr/>
        </p:nvSpPr>
        <p:spPr>
          <a:xfrm>
            <a:off x="3132000" y="5229360"/>
            <a:ext cx="129708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5003640" y="5300640"/>
            <a:ext cx="2592720" cy="60948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estigar sobre el te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 forma pers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9"/>
          <p:cNvSpPr/>
          <p:nvPr/>
        </p:nvSpPr>
        <p:spPr>
          <a:xfrm>
            <a:off x="3059280" y="5516640"/>
            <a:ext cx="107928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003640" y="6093000"/>
            <a:ext cx="2737080" cy="609480"/>
          </a:xfrm>
          <a:prstGeom prst="flowChartProcess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mpartir conoc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1" descr="j0251301"/>
          <p:cNvPicPr/>
          <p:nvPr/>
        </p:nvPicPr>
        <p:blipFill>
          <a:blip r:embed="rId1"/>
          <a:stretch/>
        </p:blipFill>
        <p:spPr>
          <a:xfrm>
            <a:off x="179280" y="5516640"/>
            <a:ext cx="1368360" cy="11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b7"/>
                </a:solidFill>
                <a:latin typeface="Arial Black"/>
              </a:rPr>
              <a:t>El Ciclo del Aprendizaje de la Metodología Indagatoria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OCALIZAR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udiantes y profesores enfocan las ideas que tienen sobre un tema y proponen nuevas metas para aprender mediante la discusión y la experiencia pers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XPLORAR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os estudiantes exploran en forma directa: objetos, organismos y fenómenos de la c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FLEXIONAR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estudiantes analizan sus observaciones y datos, revisan sus apreciaciones originales respecto del fenómeno investigado y proponen explic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PLICAR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os estudiantes aplican su nueva capacidad de entendimiento a situaciones nue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304920" y="974160"/>
            <a:ext cx="8610480" cy="5296680"/>
            <a:chOff x="304920" y="974160"/>
            <a:chExt cx="8610480" cy="5296680"/>
          </a:xfrm>
        </p:grpSpPr>
        <p:sp>
          <p:nvSpPr>
            <p:cNvPr id="140" name="Text Box 3"/>
            <p:cNvSpPr/>
            <p:nvPr/>
          </p:nvSpPr>
          <p:spPr>
            <a:xfrm>
              <a:off x="2955960" y="974160"/>
              <a:ext cx="3749760" cy="1221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FOCALIZ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imes New Roman"/>
                </a:rPr>
                <a:t>¿Cómo podemos lograr que un cubo de hielo se derrita lo más rápido posible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4"/>
            <p:cNvSpPr/>
            <p:nvPr/>
          </p:nvSpPr>
          <p:spPr>
            <a:xfrm>
              <a:off x="2819520" y="4774680"/>
              <a:ext cx="3657600" cy="1496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REFLEXION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imes New Roman"/>
                </a:rPr>
                <a:t>Comparan las características del agu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imes New Roman"/>
                </a:rPr>
                <a:t>en estado liquido y Sólido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imes New Roman"/>
                </a:rPr>
                <a:t>Discuten por que algunos cubos se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imes New Roman"/>
                </a:rPr>
                <a:t>derritieron más rápido que otro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5"/>
            <p:cNvSpPr/>
            <p:nvPr/>
          </p:nvSpPr>
          <p:spPr>
            <a:xfrm>
              <a:off x="6019920" y="2731680"/>
              <a:ext cx="2895480" cy="1496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EXPLOR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imes New Roman"/>
                </a:rPr>
                <a:t>Los Alumnos diseñan un procedimiento para derretir un cubo de hielo en el menor tiempo posible y lo realizan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 Box 6"/>
            <p:cNvSpPr/>
            <p:nvPr/>
          </p:nvSpPr>
          <p:spPr>
            <a:xfrm>
              <a:off x="304920" y="2671200"/>
              <a:ext cx="2971800" cy="1496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imes New Roman"/>
                </a:rPr>
                <a:t>APLIC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imes New Roman"/>
                </a:rPr>
                <a:t>Se enfrentan al desafió: ¿Qué materiales se pueden usar para impedir que un cubo de hielo se derrita rápidamente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7"/>
            <p:cNvSpPr/>
            <p:nvPr/>
          </p:nvSpPr>
          <p:spPr>
            <a:xfrm>
              <a:off x="3429000" y="3128040"/>
              <a:ext cx="239076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Times New Roman"/>
                </a:rPr>
                <a:t>CLASE DE CIENCI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" name="Group 8"/>
            <p:cNvGrpSpPr/>
            <p:nvPr/>
          </p:nvGrpSpPr>
          <p:grpSpPr>
            <a:xfrm>
              <a:off x="1066680" y="1600200"/>
              <a:ext cx="1752840" cy="1066680"/>
              <a:chOff x="1066680" y="1600200"/>
              <a:chExt cx="1752840" cy="1066680"/>
            </a:xfrm>
          </p:grpSpPr>
          <p:sp>
            <p:nvSpPr>
              <p:cNvPr id="146" name="Line 9"/>
              <p:cNvSpPr/>
              <p:nvPr/>
            </p:nvSpPr>
            <p:spPr>
              <a:xfrm>
                <a:off x="1066680" y="1600200"/>
                <a:ext cx="1752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10"/>
              <p:cNvSpPr/>
              <p:nvPr/>
            </p:nvSpPr>
            <p:spPr>
              <a:xfrm>
                <a:off x="1066680" y="1600200"/>
                <a:ext cx="0" cy="106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11"/>
            <p:cNvGrpSpPr/>
            <p:nvPr/>
          </p:nvGrpSpPr>
          <p:grpSpPr>
            <a:xfrm>
              <a:off x="990720" y="4266720"/>
              <a:ext cx="1752480" cy="1219680"/>
              <a:chOff x="990720" y="4266720"/>
              <a:chExt cx="1752480" cy="1219680"/>
            </a:xfrm>
          </p:grpSpPr>
          <p:sp>
            <p:nvSpPr>
              <p:cNvPr id="149" name="Line 12"/>
              <p:cNvSpPr/>
              <p:nvPr/>
            </p:nvSpPr>
            <p:spPr>
              <a:xfrm>
                <a:off x="990720" y="5486400"/>
                <a:ext cx="1752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13"/>
              <p:cNvSpPr/>
              <p:nvPr/>
            </p:nvSpPr>
            <p:spPr>
              <a:xfrm flipV="1">
                <a:off x="990720" y="4266720"/>
                <a:ext cx="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4"/>
            <p:cNvGrpSpPr/>
            <p:nvPr/>
          </p:nvGrpSpPr>
          <p:grpSpPr>
            <a:xfrm>
              <a:off x="6553080" y="4267080"/>
              <a:ext cx="1295280" cy="1218960"/>
              <a:chOff x="6553080" y="4267080"/>
              <a:chExt cx="1295280" cy="1218960"/>
            </a:xfrm>
          </p:grpSpPr>
          <p:sp>
            <p:nvSpPr>
              <p:cNvPr id="152" name="Line 15"/>
              <p:cNvSpPr/>
              <p:nvPr/>
            </p:nvSpPr>
            <p:spPr>
              <a:xfrm flipH="1">
                <a:off x="6553080" y="54860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6"/>
              <p:cNvSpPr/>
              <p:nvPr/>
            </p:nvSpPr>
            <p:spPr>
              <a:xfrm flipV="1">
                <a:off x="7848360" y="4267080"/>
                <a:ext cx="0" cy="1218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7"/>
            <p:cNvGrpSpPr/>
            <p:nvPr/>
          </p:nvGrpSpPr>
          <p:grpSpPr>
            <a:xfrm>
              <a:off x="6705360" y="1600200"/>
              <a:ext cx="1143360" cy="1066320"/>
              <a:chOff x="6705360" y="1600200"/>
              <a:chExt cx="1143360" cy="1066320"/>
            </a:xfrm>
          </p:grpSpPr>
          <p:sp>
            <p:nvSpPr>
              <p:cNvPr id="155" name="Line 18"/>
              <p:cNvSpPr/>
              <p:nvPr/>
            </p:nvSpPr>
            <p:spPr>
              <a:xfrm flipH="1">
                <a:off x="6705360" y="1600200"/>
                <a:ext cx="1143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Line 19"/>
              <p:cNvSpPr/>
              <p:nvPr/>
            </p:nvSpPr>
            <p:spPr>
              <a:xfrm>
                <a:off x="7848720" y="1600200"/>
                <a:ext cx="0" cy="106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20"/>
          <p:cNvSpPr/>
          <p:nvPr/>
        </p:nvSpPr>
        <p:spPr>
          <a:xfrm>
            <a:off x="2665800" y="22860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todología por Indag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371240" y="228600"/>
            <a:ext cx="7620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a metodología, ofrece la oportunidad para que alumnos se motiven ante una pregunta orientada científicamente: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ploren y experimenten para obtener información, formulen explicaciones, las evalúen a la luz de las nuevas evidencias y comuniquen y justifiquen las explicaciones propues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guntar, es un de las acciones principales de la indagación, la formulación de una pregunta debe generar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la necesidad de saber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es decir, que la respuesta sea necesaria para quien formulo la pregu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19320" y="457200"/>
            <a:ext cx="7611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 metodología indagatoria perm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sarrollar habilidades para la observación, medición, clasificación, comunicación, inferencias, predicciones, formulación de hipótesi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Al inicio de la clase y utilizar la técnica de </a:t>
            </a:r>
            <a:r>
              <a:rPr b="1" i="1" lang="es-E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resolución de problema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, es recomendable “la lluvia de ideas” que puede servir de diagnóstico para el profesor respecto de lo que los estudiantes saben acerca del t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osteriormente los estudiantes formulan sus predicciones sobre la actividad experimental propuesta. Seguidamente realizan la experimentación y la contrastan con sus predic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8:31:16Z</dcterms:created>
  <dc:creator>WinuE</dc:creator>
  <dc:description/>
  <dc:language>en-US</dc:language>
  <cp:lastModifiedBy>Romelio Angelo Saavedra Vargas</cp:lastModifiedBy>
  <dcterms:modified xsi:type="dcterms:W3CDTF">2011-06-02T16:21:40Z</dcterms:modified>
  <cp:revision>12</cp:revision>
  <dc:subject/>
  <dc:title>Metodología Indagatoria</dc:title>
</cp:coreProperties>
</file>